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78625" cy="9478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9E1-7DDC-425A-96A1-32CB66D8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9C1-6A55-4B74-ADAE-60EC9A7D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FEF-3ECE-4965-90FD-4C74021F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0EE-9B31-4ED1-9FA8-DB37025B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57C-F7B3-435E-AC50-4E39815D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D3E-07E8-40B3-A5EB-936BD85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6BC-973E-4DB0-88DE-A8B4567C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C7B-A0C3-4B75-AF06-06B3E8A4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7BD-4007-4223-8CD7-25C0C79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356-8170-44C5-B9EC-A659DA03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AEA-26BC-4A25-B915-E5CE9B5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3B8-496E-48DF-98BE-920A8A18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DA9C-E05B-48BC-B9BF-B5CBF5249C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Temporal Reconstru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y Adl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lliam R.B. Lionhea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d Computer Engineering, Carleton University, Ottawa, Canada </a:t>
            </a:r>
            <a:br>
              <a:rPr sz="2800"/>
            </a:br>
            <a:br>
              <a:rPr sz="2800"/>
            </a:b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of Mathematics, University of Manchester, U.K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emporal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oral Penalty Function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55640" y="2349360"/>
            <a:ext cx="1800360" cy="2160360"/>
            <a:chOff x="755640" y="2349360"/>
            <a:chExt cx="1800360" cy="2160360"/>
          </a:xfrm>
        </p:grpSpPr>
        <p:grpSp>
          <p:nvGrpSpPr>
            <p:cNvPr id="566" name=""/>
            <p:cNvGrpSpPr/>
            <p:nvPr/>
          </p:nvGrpSpPr>
          <p:grpSpPr>
            <a:xfrm>
              <a:off x="1476360" y="2349360"/>
              <a:ext cx="360360" cy="2160360"/>
              <a:chOff x="1476360" y="2349360"/>
              <a:chExt cx="360360" cy="2160360"/>
            </a:xfrm>
          </p:grpSpPr>
          <p:sp>
            <p:nvSpPr>
              <p:cNvPr id="567" name=""/>
              <p:cNvSpPr/>
              <p:nvPr/>
            </p:nvSpPr>
            <p:spPr>
              <a:xfrm>
                <a:off x="1478160" y="234936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78160" y="270972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78160" y="307008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78160" y="342864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76360" y="379080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76360" y="414936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835280" y="2349360"/>
              <a:ext cx="360360" cy="2160360"/>
              <a:chOff x="1835280" y="2349360"/>
              <a:chExt cx="360360" cy="2160360"/>
            </a:xfrm>
          </p:grpSpPr>
          <p:sp>
            <p:nvSpPr>
              <p:cNvPr id="574" name=""/>
              <p:cNvSpPr/>
              <p:nvPr/>
            </p:nvSpPr>
            <p:spPr>
              <a:xfrm>
                <a:off x="183708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3708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3708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3708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3528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83528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2195640" y="2349360"/>
              <a:ext cx="360360" cy="2160360"/>
              <a:chOff x="2195640" y="2349360"/>
              <a:chExt cx="360360" cy="2160360"/>
            </a:xfrm>
          </p:grpSpPr>
          <p:sp>
            <p:nvSpPr>
              <p:cNvPr id="581" name=""/>
              <p:cNvSpPr/>
              <p:nvPr/>
            </p:nvSpPr>
            <p:spPr>
              <a:xfrm>
                <a:off x="219744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9744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9744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9744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9564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9564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116000" y="2349360"/>
              <a:ext cx="360360" cy="2160360"/>
              <a:chOff x="1116000" y="2349360"/>
              <a:chExt cx="360360" cy="2160360"/>
            </a:xfrm>
          </p:grpSpPr>
          <p:sp>
            <p:nvSpPr>
              <p:cNvPr id="588" name=""/>
              <p:cNvSpPr/>
              <p:nvPr/>
            </p:nvSpPr>
            <p:spPr>
              <a:xfrm>
                <a:off x="111780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11780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11780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1780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1600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1600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55640" y="2349360"/>
              <a:ext cx="360360" cy="2160360"/>
              <a:chOff x="755640" y="2349360"/>
              <a:chExt cx="360360" cy="2160360"/>
            </a:xfrm>
          </p:grpSpPr>
          <p:sp>
            <p:nvSpPr>
              <p:cNvPr id="595" name=""/>
              <p:cNvSpPr/>
              <p:nvPr/>
            </p:nvSpPr>
            <p:spPr>
              <a:xfrm>
                <a:off x="75744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744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744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744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564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564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152748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2748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2748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8784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8784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8784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9888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9888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9888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9584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9584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9584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744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744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744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08360" y="2343240"/>
            <a:ext cx="1800360" cy="2173320"/>
            <a:chOff x="3708360" y="2343240"/>
            <a:chExt cx="1800360" cy="2173320"/>
          </a:xfrm>
        </p:grpSpPr>
        <p:grpSp>
          <p:nvGrpSpPr>
            <p:cNvPr id="617" name=""/>
            <p:cNvGrpSpPr/>
            <p:nvPr/>
          </p:nvGrpSpPr>
          <p:grpSpPr>
            <a:xfrm>
              <a:off x="4429080" y="2349360"/>
              <a:ext cx="360360" cy="2160360"/>
              <a:chOff x="4429080" y="2349360"/>
              <a:chExt cx="360360" cy="2160360"/>
            </a:xfrm>
          </p:grpSpPr>
          <p:sp>
            <p:nvSpPr>
              <p:cNvPr id="618" name=""/>
              <p:cNvSpPr/>
              <p:nvPr/>
            </p:nvSpPr>
            <p:spPr>
              <a:xfrm>
                <a:off x="4430880" y="234936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430880" y="270972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30880" y="307008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430880" y="342864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429080" y="379080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29080" y="414936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788000" y="2349360"/>
              <a:ext cx="360360" cy="2160360"/>
              <a:chOff x="4788000" y="2349360"/>
              <a:chExt cx="360360" cy="2160360"/>
            </a:xfrm>
          </p:grpSpPr>
          <p:sp>
            <p:nvSpPr>
              <p:cNvPr id="625" name=""/>
              <p:cNvSpPr/>
              <p:nvPr/>
            </p:nvSpPr>
            <p:spPr>
              <a:xfrm>
                <a:off x="478980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8980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8980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8980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800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800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148360" y="2349360"/>
              <a:ext cx="360360" cy="2160360"/>
              <a:chOff x="5148360" y="2349360"/>
              <a:chExt cx="360360" cy="2160360"/>
            </a:xfrm>
          </p:grpSpPr>
          <p:sp>
            <p:nvSpPr>
              <p:cNvPr id="632" name=""/>
              <p:cNvSpPr/>
              <p:nvPr/>
            </p:nvSpPr>
            <p:spPr>
              <a:xfrm>
                <a:off x="515016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5016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5016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5016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4836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14836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068720" y="2349360"/>
              <a:ext cx="360360" cy="2160360"/>
              <a:chOff x="4068720" y="2349360"/>
              <a:chExt cx="360360" cy="2160360"/>
            </a:xfrm>
          </p:grpSpPr>
          <p:sp>
            <p:nvSpPr>
              <p:cNvPr id="639" name=""/>
              <p:cNvSpPr/>
              <p:nvPr/>
            </p:nvSpPr>
            <p:spPr>
              <a:xfrm>
                <a:off x="407052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7052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7052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7052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6872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6872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3708360" y="2349360"/>
              <a:ext cx="360360" cy="2160360"/>
              <a:chOff x="3708360" y="2349360"/>
              <a:chExt cx="360360" cy="2160360"/>
            </a:xfrm>
          </p:grpSpPr>
          <p:sp>
            <p:nvSpPr>
              <p:cNvPr id="646" name=""/>
              <p:cNvSpPr/>
              <p:nvPr/>
            </p:nvSpPr>
            <p:spPr>
              <a:xfrm>
                <a:off x="371016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1016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1016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1016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0836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70836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448020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48020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8020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40560" y="27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056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4056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51600" y="270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51600" y="3062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51600" y="2343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48560" y="342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4856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48560" y="306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10160" y="378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10160" y="414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1016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6659640" y="2349360"/>
            <a:ext cx="1800000" cy="2160720"/>
            <a:chOff x="6659640" y="2349360"/>
            <a:chExt cx="1800000" cy="2160720"/>
          </a:xfrm>
        </p:grpSpPr>
        <p:grpSp>
          <p:nvGrpSpPr>
            <p:cNvPr id="668" name=""/>
            <p:cNvGrpSpPr/>
            <p:nvPr/>
          </p:nvGrpSpPr>
          <p:grpSpPr>
            <a:xfrm>
              <a:off x="7380360" y="2349360"/>
              <a:ext cx="360360" cy="2160360"/>
              <a:chOff x="7380360" y="2349360"/>
              <a:chExt cx="360360" cy="2160360"/>
            </a:xfrm>
          </p:grpSpPr>
          <p:sp>
            <p:nvSpPr>
              <p:cNvPr id="669" name=""/>
              <p:cNvSpPr/>
              <p:nvPr/>
            </p:nvSpPr>
            <p:spPr>
              <a:xfrm>
                <a:off x="7382160" y="234936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82160" y="270972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82160" y="307008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2160" y="342864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0360" y="379080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80360" y="414936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7738920" y="2349360"/>
              <a:ext cx="360360" cy="2160360"/>
              <a:chOff x="7738920" y="2349360"/>
              <a:chExt cx="360360" cy="2160360"/>
            </a:xfrm>
          </p:grpSpPr>
          <p:sp>
            <p:nvSpPr>
              <p:cNvPr id="676" name=""/>
              <p:cNvSpPr/>
              <p:nvPr/>
            </p:nvSpPr>
            <p:spPr>
              <a:xfrm>
                <a:off x="774072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4072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4072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4072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892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3892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8099280" y="2349360"/>
              <a:ext cx="360360" cy="2160360"/>
              <a:chOff x="8099280" y="2349360"/>
              <a:chExt cx="360360" cy="216036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108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0108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10108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10108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9928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9928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7020000" y="2349360"/>
              <a:ext cx="360360" cy="2160360"/>
              <a:chOff x="7020000" y="2349360"/>
              <a:chExt cx="360360" cy="2160360"/>
            </a:xfrm>
          </p:grpSpPr>
          <p:sp>
            <p:nvSpPr>
              <p:cNvPr id="690" name=""/>
              <p:cNvSpPr/>
              <p:nvPr/>
            </p:nvSpPr>
            <p:spPr>
              <a:xfrm>
                <a:off x="702180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2180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2180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2180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2000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2000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6659640" y="2349360"/>
              <a:ext cx="360360" cy="2160360"/>
              <a:chOff x="6659640" y="2349360"/>
              <a:chExt cx="360360" cy="2160360"/>
            </a:xfrm>
          </p:grpSpPr>
          <p:sp>
            <p:nvSpPr>
              <p:cNvPr id="697" name=""/>
              <p:cNvSpPr/>
              <p:nvPr/>
            </p:nvSpPr>
            <p:spPr>
              <a:xfrm>
                <a:off x="6661440" y="234936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661440" y="270972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61440" y="307008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661440" y="3428640"/>
                <a:ext cx="35856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59640" y="379080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659640" y="4149360"/>
                <a:ext cx="358920" cy="36036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743148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31480" y="342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31480" y="270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18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4141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1840" y="3422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02880" y="27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0288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0288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9948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99480" y="4141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9480" y="3422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61440" y="270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61440" y="306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61440" y="234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191240" y="5157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687480" y="51577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quite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73760" y="515772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un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23640" y="6093000"/>
            <a:ext cx="74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tandard EIT approaches to not take this into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alman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79280" y="4508640"/>
            <a:ext cx="6478200" cy="2160360"/>
            <a:chOff x="179280" y="4508640"/>
            <a:chExt cx="6478200" cy="2160360"/>
          </a:xfrm>
        </p:grpSpPr>
        <p:grpSp>
          <p:nvGrpSpPr>
            <p:cNvPr id="724" name=""/>
            <p:cNvGrpSpPr/>
            <p:nvPr/>
          </p:nvGrpSpPr>
          <p:grpSpPr>
            <a:xfrm>
              <a:off x="179280" y="4795920"/>
              <a:ext cx="358560" cy="1439280"/>
              <a:chOff x="179280" y="4795920"/>
              <a:chExt cx="358560" cy="1439280"/>
            </a:xfrm>
          </p:grpSpPr>
          <p:sp>
            <p:nvSpPr>
              <p:cNvPr id="725" name=""/>
              <p:cNvSpPr/>
              <p:nvPr/>
            </p:nvSpPr>
            <p:spPr>
              <a:xfrm>
                <a:off x="179280" y="4795920"/>
                <a:ext cx="358560" cy="3600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9280" y="5155920"/>
                <a:ext cx="358560" cy="3600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79280" y="5516280"/>
                <a:ext cx="358560" cy="3600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9280" y="5875200"/>
                <a:ext cx="358560" cy="3600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187280" y="4795920"/>
              <a:ext cx="2160360" cy="1439280"/>
              <a:chOff x="1187280" y="4795920"/>
              <a:chExt cx="2160360" cy="1439280"/>
            </a:xfrm>
          </p:grpSpPr>
          <p:sp>
            <p:nvSpPr>
              <p:cNvPr id="730" name=""/>
              <p:cNvSpPr/>
              <p:nvPr/>
            </p:nvSpPr>
            <p:spPr>
              <a:xfrm flipH="1" rot="16200000">
                <a:off x="1187640" y="479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rot="16200000">
                <a:off x="1548000" y="479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rot="16200000">
                <a:off x="1908360" y="479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rot="16200000">
                <a:off x="2266920" y="479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rot="16200000">
                <a:off x="2629080" y="479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 rot="16200000">
                <a:off x="2987640" y="479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rot="16200000">
                <a:off x="1187640" y="515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rot="16200000">
                <a:off x="1548000" y="515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rot="16200000">
                <a:off x="1908360" y="515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rot="16200000">
                <a:off x="2266920" y="515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rot="16200000">
                <a:off x="2629080" y="515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rot="16200000">
                <a:off x="2987640" y="515484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rot="16200000">
                <a:off x="1187640" y="551520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rot="16200000">
                <a:off x="1548000" y="551520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 rot="16200000">
                <a:off x="1908360" y="551520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rot="16200000">
                <a:off x="2266920" y="551520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rot="16200000">
                <a:off x="2629080" y="551520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rot="16200000">
                <a:off x="2987640" y="551520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 rot="16200000">
                <a:off x="1187640" y="587556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 rot="16200000">
                <a:off x="1548000" y="587556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6200000">
                <a:off x="1908360" y="587556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rot="16200000">
                <a:off x="2266920" y="587556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rot="16200000">
                <a:off x="2629080" y="587556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rot="16200000">
                <a:off x="2987640" y="5875560"/>
                <a:ext cx="358560" cy="36036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612000" y="5124600"/>
              <a:ext cx="53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85440" y="5124600"/>
              <a:ext cx="53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3995640" y="4508640"/>
              <a:ext cx="360360" cy="2160360"/>
              <a:chOff x="3995640" y="4508640"/>
              <a:chExt cx="360360" cy="21603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97440" y="450864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97440" y="486900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997440" y="522936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997440" y="5587920"/>
                <a:ext cx="35856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95640" y="595008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640" y="6308640"/>
                <a:ext cx="358920" cy="360360"/>
              </a:xfrm>
              <a:prstGeom prst="rect">
                <a:avLst/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4495680" y="5124600"/>
              <a:ext cx="216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nois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950080"/>
                <a:ext cx="2795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612360" y="1884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85800" y="1884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995640" y="1197000"/>
            <a:ext cx="360360" cy="2160360"/>
            <a:chOff x="3995640" y="1197000"/>
            <a:chExt cx="360360" cy="2160360"/>
          </a:xfrm>
        </p:grpSpPr>
        <p:sp>
          <p:nvSpPr>
            <p:cNvPr id="768" name=""/>
            <p:cNvSpPr/>
            <p:nvPr/>
          </p:nvSpPr>
          <p:spPr>
            <a:xfrm>
              <a:off x="3997440" y="11970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97440" y="1557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97440" y="1917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97440" y="22762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95640" y="263844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995640" y="29970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4431240" y="1884240"/>
            <a:ext cx="283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+ proc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186560" y="1197000"/>
            <a:ext cx="2160720" cy="2157480"/>
            <a:chOff x="1186560" y="1197000"/>
            <a:chExt cx="2160720" cy="2157480"/>
          </a:xfrm>
        </p:grpSpPr>
        <p:sp>
          <p:nvSpPr>
            <p:cNvPr id="776" name=""/>
            <p:cNvSpPr/>
            <p:nvPr/>
          </p:nvSpPr>
          <p:spPr>
            <a:xfrm flipH="1" rot="16200000">
              <a:off x="1186920" y="11962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rot="16200000">
              <a:off x="1547280" y="11962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rot="16200000">
              <a:off x="1907640" y="11962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rot="16200000">
              <a:off x="2266560" y="11962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rot="16200000">
              <a:off x="2628360" y="11962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rot="16200000">
              <a:off x="2987280" y="11962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rot="16200000">
              <a:off x="1186920" y="15566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rot="16200000">
              <a:off x="1547280" y="15566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 rot="16200000">
              <a:off x="1907640" y="15566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 rot="16200000">
              <a:off x="2266560" y="15566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 rot="16200000">
              <a:off x="2628360" y="15566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rot="16200000">
              <a:off x="2987280" y="15566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16200000">
              <a:off x="1186920" y="191700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rot="16200000">
              <a:off x="1547280" y="191700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rot="16200000">
              <a:off x="1907640" y="191700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rot="16200000">
              <a:off x="2266560" y="191700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rot="16200000">
              <a:off x="2628360" y="191700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rot="16200000">
              <a:off x="2987280" y="191700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rot="16200000">
              <a:off x="1186920" y="227736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rot="16200000">
              <a:off x="1547280" y="227736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rot="16200000">
              <a:off x="1907640" y="227736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rot="16200000">
              <a:off x="2266560" y="227736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rot="16200000">
              <a:off x="2628360" y="227736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rot="16200000">
              <a:off x="2987280" y="227736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rot="16200000">
              <a:off x="1186920" y="26344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rot="16200000">
              <a:off x="1547280" y="26344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rot="16200000">
              <a:off x="1907640" y="26344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rot="16200000">
              <a:off x="2266560" y="26344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rot="16200000">
              <a:off x="2628360" y="26344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rot="16200000">
              <a:off x="2987280" y="263448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rot="16200000">
              <a:off x="1186920" y="29948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547280" y="29948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rot="16200000">
              <a:off x="1907640" y="29948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rot="16200000">
              <a:off x="2266560" y="29948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2628360" y="29948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rot="16200000">
              <a:off x="2987280" y="2994840"/>
              <a:ext cx="35892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179280" y="1197000"/>
            <a:ext cx="360360" cy="2160360"/>
            <a:chOff x="179280" y="1197000"/>
            <a:chExt cx="360360" cy="2160360"/>
          </a:xfrm>
        </p:grpSpPr>
        <p:sp>
          <p:nvSpPr>
            <p:cNvPr id="813" name=""/>
            <p:cNvSpPr/>
            <p:nvPr/>
          </p:nvSpPr>
          <p:spPr>
            <a:xfrm>
              <a:off x="181080" y="11970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1080" y="1557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1080" y="1917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1080" y="22762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79280" y="263844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9280" y="29970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80" y="3500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95480" y="328464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pr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5894280" y="2708280"/>
                <a:ext cx="3176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2" name=""/>
          <p:cNvSpPr/>
          <p:nvPr/>
        </p:nvSpPr>
        <p:spPr>
          <a:xfrm flipH="1">
            <a:off x="7308360" y="5013360"/>
            <a:ext cx="576360" cy="936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424200" y="4119480"/>
            <a:ext cx="25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atrix (Jacob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7259760" y="1946160"/>
            <a:ext cx="576000" cy="936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37600" y="105264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tate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Kalman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wo stag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847880" y="2544840"/>
                <a:ext cx="22874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 flipH="1">
            <a:off x="2557440" y="2060640"/>
            <a:ext cx="1509840" cy="576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26160" y="1628640"/>
            <a:ext cx="33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Estimate of now ba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on old data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79640" y="2565360"/>
            <a:ext cx="647640" cy="3589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8360" y="346860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889280" y="4005360"/>
                <a:ext cx="4914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"/>
          <p:cNvSpPr/>
          <p:nvPr/>
        </p:nvSpPr>
        <p:spPr>
          <a:xfrm>
            <a:off x="468360" y="483552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 is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Kalman gai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ed to update at each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3478320" y="5826240"/>
                <a:ext cx="36860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ide: Simulat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mulating movement is really tri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mple solution is to choose different elements in a F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rete elements make model not sm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217440" y="2997360"/>
            <a:ext cx="86756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ving Ball in 16 electrode t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662040" y="1413000"/>
            <a:ext cx="7870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lectrod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324000" y="2054160"/>
            <a:ext cx="7715160" cy="45435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 rot="1920000">
            <a:off x="3924360" y="3211200"/>
            <a:ext cx="1584360" cy="1512720"/>
          </a:xfrm>
          <a:prstGeom prst="ellipse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5437080" y="4221000"/>
            <a:ext cx="2448000" cy="1152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181280" y="5337000"/>
            <a:ext cx="18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Refi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at electr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ed detailed electrode models to avoid geometry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nstructed 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63520" y="4076640"/>
            <a:ext cx="358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tgen simulation of moving b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100,000 elements per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tal simulation 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076720" y="4076640"/>
            <a:ext cx="358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surements of moving plexiglas 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saline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thanks to II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tal model tim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0 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gorithm is regularized one-step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uss-Newton using Laplace p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constructed 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3520" y="4292640"/>
            <a:ext cx="409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tgen simul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ing b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100,000 element F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imulation time =  3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43280" y="4248000"/>
            <a:ext cx="45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surements of moving plexiglas rod in saline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thanks to II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surement time =  60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5340240" y="1268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auss-Newton vs. Ka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6352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uss-Newto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5.3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22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16600" y="407664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alma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29.6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ata with added 0dB SNR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Gauss-Newton vs. Kalman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(0dB SN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63520" y="461340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uss-Newto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5.3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22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016600" y="461808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alma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29.6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468360" y="146052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good thing about EIT is that the data collection is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me rates up to 1000 f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ditionally, EIT uses frame by frame image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should be possible to use the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temporal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formation to improve th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e need a faster 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can improve on Kalman in two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can go f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alman calculates the temporal prior. We can directly tell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pas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st EIT reconstruction is post-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 online images, we can delay by a few frames (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≈ 100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rect temporal 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7021440" y="2349360"/>
            <a:ext cx="360360" cy="2160360"/>
            <a:chOff x="7021440" y="2349360"/>
            <a:chExt cx="360360" cy="2160360"/>
          </a:xfrm>
        </p:grpSpPr>
        <p:sp>
          <p:nvSpPr>
            <p:cNvPr id="869" name=""/>
            <p:cNvSpPr/>
            <p:nvPr/>
          </p:nvSpPr>
          <p:spPr>
            <a:xfrm>
              <a:off x="7023240" y="2349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23240" y="2709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023240" y="3070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23240" y="3428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21440" y="37908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1440" y="4149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380360" y="2349360"/>
            <a:ext cx="360360" cy="2160360"/>
            <a:chOff x="7380360" y="2349360"/>
            <a:chExt cx="360360" cy="2160360"/>
          </a:xfrm>
        </p:grpSpPr>
        <p:sp>
          <p:nvSpPr>
            <p:cNvPr id="876" name=""/>
            <p:cNvSpPr/>
            <p:nvPr/>
          </p:nvSpPr>
          <p:spPr>
            <a:xfrm>
              <a:off x="738216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8216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216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8216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8036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38036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740720" y="2349360"/>
            <a:ext cx="360360" cy="2160360"/>
            <a:chOff x="7740720" y="2349360"/>
            <a:chExt cx="360360" cy="2160360"/>
          </a:xfrm>
        </p:grpSpPr>
        <p:sp>
          <p:nvSpPr>
            <p:cNvPr id="883" name=""/>
            <p:cNvSpPr/>
            <p:nvPr/>
          </p:nvSpPr>
          <p:spPr>
            <a:xfrm>
              <a:off x="774252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74252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4252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74252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4072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4072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661080" y="2349360"/>
            <a:ext cx="360360" cy="2160360"/>
            <a:chOff x="6661080" y="2349360"/>
            <a:chExt cx="360360" cy="2160360"/>
          </a:xfrm>
        </p:grpSpPr>
        <p:sp>
          <p:nvSpPr>
            <p:cNvPr id="890" name=""/>
            <p:cNvSpPr/>
            <p:nvPr/>
          </p:nvSpPr>
          <p:spPr>
            <a:xfrm>
              <a:off x="666288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6288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6288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6288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66108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66108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6300720" y="2349360"/>
            <a:ext cx="360360" cy="2160360"/>
            <a:chOff x="6300720" y="2349360"/>
            <a:chExt cx="360360" cy="2160360"/>
          </a:xfrm>
        </p:grpSpPr>
        <p:sp>
          <p:nvSpPr>
            <p:cNvPr id="897" name=""/>
            <p:cNvSpPr/>
            <p:nvPr/>
          </p:nvSpPr>
          <p:spPr>
            <a:xfrm>
              <a:off x="630252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0252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0252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0252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0072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0072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8605800" y="2349360"/>
            <a:ext cx="360360" cy="2160360"/>
            <a:chOff x="8605800" y="2349360"/>
            <a:chExt cx="360360" cy="2160360"/>
          </a:xfrm>
        </p:grpSpPr>
        <p:sp>
          <p:nvSpPr>
            <p:cNvPr id="904" name=""/>
            <p:cNvSpPr/>
            <p:nvPr/>
          </p:nvSpPr>
          <p:spPr>
            <a:xfrm>
              <a:off x="860760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60760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60760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60760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0580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60580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810252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508720" y="2349360"/>
            <a:ext cx="360360" cy="2160360"/>
            <a:chOff x="5508720" y="2349360"/>
            <a:chExt cx="360360" cy="2160360"/>
          </a:xfrm>
        </p:grpSpPr>
        <p:sp>
          <p:nvSpPr>
            <p:cNvPr id="912" name=""/>
            <p:cNvSpPr/>
            <p:nvPr/>
          </p:nvSpPr>
          <p:spPr>
            <a:xfrm>
              <a:off x="551052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51052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1052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1052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0872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0872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587052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21440" y="4718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58980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7088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53452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1052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30880" y="4718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3708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828720" y="2781360"/>
            <a:ext cx="358560" cy="1439280"/>
            <a:chOff x="828720" y="2781360"/>
            <a:chExt cx="358560" cy="1439280"/>
          </a:xfrm>
        </p:grpSpPr>
        <p:sp>
          <p:nvSpPr>
            <p:cNvPr id="927" name=""/>
            <p:cNvSpPr/>
            <p:nvPr/>
          </p:nvSpPr>
          <p:spPr>
            <a:xfrm>
              <a:off x="828720" y="278136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28720" y="314136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28720" y="350172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28720" y="386064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3132000" y="2781360"/>
            <a:ext cx="2160360" cy="1439280"/>
            <a:chOff x="3132000" y="2781360"/>
            <a:chExt cx="2160360" cy="1439280"/>
          </a:xfrm>
        </p:grpSpPr>
        <p:sp>
          <p:nvSpPr>
            <p:cNvPr id="932" name=""/>
            <p:cNvSpPr/>
            <p:nvPr/>
          </p:nvSpPr>
          <p:spPr>
            <a:xfrm flipH="1" rot="16200000">
              <a:off x="313236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16200000">
              <a:off x="349272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rot="16200000">
              <a:off x="385308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rot="16200000">
              <a:off x="421164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rot="16200000">
              <a:off x="457380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rot="16200000">
              <a:off x="493236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16200000">
              <a:off x="313236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16200000">
              <a:off x="349272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16200000">
              <a:off x="385308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16200000">
              <a:off x="421164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16200000">
              <a:off x="457380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16200000">
              <a:off x="493236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6200000">
              <a:off x="313236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rot="16200000">
              <a:off x="349272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rot="16200000">
              <a:off x="385308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rot="16200000">
              <a:off x="421164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16200000">
              <a:off x="457380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16200000">
              <a:off x="493236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16200000">
              <a:off x="313236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rot="16200000">
              <a:off x="349272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rot="16200000">
              <a:off x="385308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rot="16200000">
              <a:off x="421164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rot="16200000">
              <a:off x="457380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rot="16200000">
              <a:off x="493236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2665080" y="31100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365800" y="2205000"/>
            <a:ext cx="360360" cy="25192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8748000" y="2205000"/>
            <a:ext cx="360360" cy="2519280"/>
          </a:xfrm>
          <a:custGeom>
            <a:avLst/>
            <a:gdLst>
              <a:gd name="textAreaLeft" fmla="*/ 105480 w 360360"/>
              <a:gd name="textAreaRight" fmla="*/ 36036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450600" y="213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189080" y="2781360"/>
            <a:ext cx="358560" cy="1439280"/>
            <a:chOff x="1189080" y="2781360"/>
            <a:chExt cx="358560" cy="1439280"/>
          </a:xfrm>
        </p:grpSpPr>
        <p:sp>
          <p:nvSpPr>
            <p:cNvPr id="961" name=""/>
            <p:cNvSpPr/>
            <p:nvPr/>
          </p:nvSpPr>
          <p:spPr>
            <a:xfrm>
              <a:off x="118908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8908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8908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8908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468360" y="2781360"/>
            <a:ext cx="358560" cy="1439280"/>
            <a:chOff x="468360" y="2781360"/>
            <a:chExt cx="358560" cy="1439280"/>
          </a:xfrm>
        </p:grpSpPr>
        <p:sp>
          <p:nvSpPr>
            <p:cNvPr id="966" name=""/>
            <p:cNvSpPr/>
            <p:nvPr/>
          </p:nvSpPr>
          <p:spPr>
            <a:xfrm>
              <a:off x="46836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836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836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836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1549440" y="2781360"/>
            <a:ext cx="358560" cy="1439280"/>
            <a:chOff x="1549440" y="2781360"/>
            <a:chExt cx="358560" cy="1439280"/>
          </a:xfrm>
        </p:grpSpPr>
        <p:sp>
          <p:nvSpPr>
            <p:cNvPr id="971" name=""/>
            <p:cNvSpPr/>
            <p:nvPr/>
          </p:nvSpPr>
          <p:spPr>
            <a:xfrm>
              <a:off x="154944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54944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54944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54944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108000" y="2781360"/>
            <a:ext cx="358560" cy="1439280"/>
            <a:chOff x="108000" y="2781360"/>
            <a:chExt cx="358560" cy="1439280"/>
          </a:xfrm>
        </p:grpSpPr>
        <p:sp>
          <p:nvSpPr>
            <p:cNvPr id="976" name=""/>
            <p:cNvSpPr/>
            <p:nvPr/>
          </p:nvSpPr>
          <p:spPr>
            <a:xfrm>
              <a:off x="10800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0800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0800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0800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341440" y="2781360"/>
            <a:ext cx="358920" cy="1439280"/>
            <a:chOff x="2341440" y="2781360"/>
            <a:chExt cx="358920" cy="1439280"/>
          </a:xfrm>
        </p:grpSpPr>
        <p:sp>
          <p:nvSpPr>
            <p:cNvPr id="981" name=""/>
            <p:cNvSpPr/>
            <p:nvPr/>
          </p:nvSpPr>
          <p:spPr>
            <a:xfrm>
              <a:off x="2341440" y="278136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41440" y="314136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41440" y="350172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41440" y="386064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1836720" y="325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87960" y="18194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Imag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960" y="184464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2872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672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47780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9708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11744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1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219280" y="5517720"/>
            <a:ext cx="346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Rewrite a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rect temporal forwar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828720" y="3070080"/>
            <a:ext cx="179280" cy="719280"/>
            <a:chOff x="828720" y="3070080"/>
            <a:chExt cx="179280" cy="719280"/>
          </a:xfrm>
        </p:grpSpPr>
        <p:sp>
          <p:nvSpPr>
            <p:cNvPr id="997" name=""/>
            <p:cNvSpPr/>
            <p:nvPr/>
          </p:nvSpPr>
          <p:spPr>
            <a:xfrm>
              <a:off x="828720" y="307008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28720" y="325008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28720" y="343008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8720" y="360936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4505400" y="3141720"/>
            <a:ext cx="1079280" cy="718560"/>
            <a:chOff x="4505400" y="3141720"/>
            <a:chExt cx="1079280" cy="718560"/>
          </a:xfrm>
        </p:grpSpPr>
        <p:sp>
          <p:nvSpPr>
            <p:cNvPr id="1002" name=""/>
            <p:cNvSpPr/>
            <p:nvPr/>
          </p:nvSpPr>
          <p:spPr>
            <a:xfrm flipH="1" rot="16200000">
              <a:off x="4505760" y="314100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rot="16200000">
              <a:off x="4685760" y="314100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rot="16200000">
              <a:off x="4865760" y="314100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rot="16200000">
              <a:off x="5045040" y="314100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rot="16200000">
              <a:off x="5225760" y="314100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rot="16200000">
              <a:off x="5405040" y="314100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4505760" y="332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rot="16200000">
              <a:off x="4685760" y="332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rot="16200000">
              <a:off x="4865760" y="332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rot="16200000">
              <a:off x="5045040" y="332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rot="16200000">
              <a:off x="5225760" y="332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rot="16200000">
              <a:off x="5405040" y="332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rot="16200000">
              <a:off x="4505760" y="350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rot="16200000">
              <a:off x="4685760" y="350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16200000">
              <a:off x="4865760" y="350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rot="16200000">
              <a:off x="5045040" y="350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rot="16200000">
              <a:off x="5225760" y="350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rot="16200000">
              <a:off x="5405040" y="350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rot="16200000">
              <a:off x="4505760" y="368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 rot="16200000">
              <a:off x="4685760" y="368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rot="16200000">
              <a:off x="4865760" y="368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rot="16200000">
              <a:off x="5045040" y="368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 rot="16200000">
              <a:off x="5225760" y="368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5405040" y="368064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1477440" y="31100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268360" y="1341360"/>
            <a:ext cx="360720" cy="4319640"/>
          </a:xfrm>
          <a:custGeom>
            <a:avLst/>
            <a:gdLst>
              <a:gd name="textAreaLeft" fmla="*/ 105840 w 360720"/>
              <a:gd name="textAreaRight" fmla="*/ 361080 w 360720"/>
              <a:gd name="textAreaTop" fmla="*/ 180000 h 4319640"/>
              <a:gd name="textAreaBottom" fmla="*/ 4140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7452720" y="1341360"/>
            <a:ext cx="360360" cy="4319640"/>
          </a:xfrm>
          <a:custGeom>
            <a:avLst/>
            <a:gdLst>
              <a:gd name="textAreaLeft" fmla="*/ 105480 w 360360"/>
              <a:gd name="textAreaRight" fmla="*/ 360360 w 360360"/>
              <a:gd name="textAreaTop" fmla="*/ 180000 h 4319640"/>
              <a:gd name="textAreaBottom" fmla="*/ 4140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764160" y="58053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Aug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167960" y="591984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I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0520" y="573408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8353440" y="3141720"/>
            <a:ext cx="179280" cy="1079280"/>
            <a:chOff x="8353440" y="3141720"/>
            <a:chExt cx="179280" cy="1079280"/>
          </a:xfrm>
        </p:grpSpPr>
        <p:sp>
          <p:nvSpPr>
            <p:cNvPr id="1033" name=""/>
            <p:cNvSpPr/>
            <p:nvPr/>
          </p:nvSpPr>
          <p:spPr>
            <a:xfrm>
              <a:off x="8354160" y="314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54160" y="332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354160" y="350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354160" y="368100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353440" y="386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53440" y="404100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50200" y="4221000"/>
            <a:ext cx="179280" cy="1079640"/>
            <a:chOff x="8350200" y="4221000"/>
            <a:chExt cx="179280" cy="1079640"/>
          </a:xfrm>
        </p:grpSpPr>
        <p:sp>
          <p:nvSpPr>
            <p:cNvPr id="1040" name=""/>
            <p:cNvSpPr/>
            <p:nvPr/>
          </p:nvSpPr>
          <p:spPr>
            <a:xfrm>
              <a:off x="8350920" y="422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0920" y="440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350920" y="45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350920" y="476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350200" y="49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350200" y="512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8352000" y="5302080"/>
            <a:ext cx="179280" cy="1079640"/>
            <a:chOff x="8352000" y="5302080"/>
            <a:chExt cx="179280" cy="1079640"/>
          </a:xfrm>
        </p:grpSpPr>
        <p:sp>
          <p:nvSpPr>
            <p:cNvPr id="1047" name=""/>
            <p:cNvSpPr/>
            <p:nvPr/>
          </p:nvSpPr>
          <p:spPr>
            <a:xfrm>
              <a:off x="8352720" y="530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352720" y="548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352720" y="56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52720" y="58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52000" y="602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52000" y="620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8352000" y="981000"/>
            <a:ext cx="179280" cy="1079640"/>
            <a:chOff x="8352000" y="981000"/>
            <a:chExt cx="179280" cy="1079640"/>
          </a:xfrm>
        </p:grpSpPr>
        <p:sp>
          <p:nvSpPr>
            <p:cNvPr id="1054" name=""/>
            <p:cNvSpPr/>
            <p:nvPr/>
          </p:nvSpPr>
          <p:spPr>
            <a:xfrm>
              <a:off x="8352720" y="9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352720" y="116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352720" y="134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352720" y="152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352000" y="17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352000" y="188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8353440" y="2062080"/>
            <a:ext cx="179280" cy="1079640"/>
            <a:chOff x="8353440" y="2062080"/>
            <a:chExt cx="179280" cy="1079640"/>
          </a:xfrm>
        </p:grpSpPr>
        <p:sp>
          <p:nvSpPr>
            <p:cNvPr id="1061" name=""/>
            <p:cNvSpPr/>
            <p:nvPr/>
          </p:nvSpPr>
          <p:spPr>
            <a:xfrm>
              <a:off x="8354160" y="20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354160" y="224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354160" y="242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354160" y="26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353440" y="278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353440" y="296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583240" y="3862440"/>
            <a:ext cx="1079640" cy="718560"/>
            <a:chOff x="5583240" y="3862440"/>
            <a:chExt cx="1079640" cy="718560"/>
          </a:xfrm>
        </p:grpSpPr>
        <p:sp>
          <p:nvSpPr>
            <p:cNvPr id="1068" name=""/>
            <p:cNvSpPr/>
            <p:nvPr/>
          </p:nvSpPr>
          <p:spPr>
            <a:xfrm flipH="1" rot="16200000">
              <a:off x="5583600" y="38617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rot="16200000">
              <a:off x="5763600" y="38617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rot="16200000">
              <a:off x="5943600" y="38617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rot="16200000">
              <a:off x="6122880" y="38617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 rot="16200000">
              <a:off x="6303960" y="38617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rot="16200000">
              <a:off x="6483240" y="38617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 rot="16200000">
              <a:off x="5583600" y="404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rot="16200000">
              <a:off x="5763600" y="404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rot="16200000">
              <a:off x="5943600" y="404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rot="16200000">
              <a:off x="6122880" y="404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rot="16200000">
              <a:off x="6303960" y="404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rot="16200000">
              <a:off x="6483240" y="404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16200000">
              <a:off x="5583600" y="422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rot="16200000">
              <a:off x="5763600" y="422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rot="16200000">
              <a:off x="5943600" y="422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 rot="16200000">
              <a:off x="6122880" y="422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 rot="16200000">
              <a:off x="6303960" y="422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rot="16200000">
              <a:off x="6483240" y="422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rot="16200000">
              <a:off x="5583600" y="440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 rot="16200000">
              <a:off x="5763600" y="440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5943600" y="440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rot="16200000">
              <a:off x="6122880" y="440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16200000">
              <a:off x="6303960" y="440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6483240" y="440136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3422520" y="2421000"/>
            <a:ext cx="1079640" cy="718560"/>
            <a:chOff x="3422520" y="2421000"/>
            <a:chExt cx="1079640" cy="718560"/>
          </a:xfrm>
        </p:grpSpPr>
        <p:sp>
          <p:nvSpPr>
            <p:cNvPr id="1093" name=""/>
            <p:cNvSpPr/>
            <p:nvPr/>
          </p:nvSpPr>
          <p:spPr>
            <a:xfrm flipH="1" rot="16200000">
              <a:off x="3422880" y="242028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rot="16200000">
              <a:off x="3602880" y="242028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rot="16200000">
              <a:off x="3782880" y="242028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rot="16200000">
              <a:off x="3962160" y="242028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rot="16200000">
              <a:off x="4143240" y="242028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rot="16200000">
              <a:off x="4322520" y="242028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rot="16200000">
              <a:off x="3422880" y="259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rot="16200000">
              <a:off x="3602880" y="259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rot="16200000">
              <a:off x="3782880" y="259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rot="16200000">
              <a:off x="3962160" y="259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rot="16200000">
              <a:off x="4143240" y="259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rot="16200000">
              <a:off x="4322520" y="259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rot="16200000">
              <a:off x="3422880" y="277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3602880" y="277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rot="16200000">
              <a:off x="3782880" y="277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rot="16200000">
              <a:off x="3962160" y="277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rot="16200000">
              <a:off x="4143240" y="277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 rot="16200000">
              <a:off x="4322520" y="277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rot="16200000">
              <a:off x="3422880" y="295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rot="16200000">
              <a:off x="3602880" y="295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rot="16200000">
              <a:off x="3782880" y="295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 rot="16200000">
              <a:off x="3962160" y="295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 rot="16200000">
              <a:off x="4143240" y="295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rot="16200000">
              <a:off x="4322520" y="2959920"/>
              <a:ext cx="17892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662880" y="4581360"/>
            <a:ext cx="1079280" cy="719280"/>
            <a:chOff x="6662880" y="4581360"/>
            <a:chExt cx="1079280" cy="719280"/>
          </a:xfrm>
        </p:grpSpPr>
        <p:sp>
          <p:nvSpPr>
            <p:cNvPr id="1118" name=""/>
            <p:cNvSpPr/>
            <p:nvPr/>
          </p:nvSpPr>
          <p:spPr>
            <a:xfrm flipH="1" rot="16200000">
              <a:off x="6663240" y="458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rot="16200000">
              <a:off x="6843240" y="458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rot="16200000">
              <a:off x="7023240" y="458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rot="16200000">
              <a:off x="7202520" y="458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 rot="16200000">
              <a:off x="7383240" y="458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rot="16200000">
              <a:off x="7562520" y="458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 rot="16200000">
              <a:off x="6663240" y="476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rot="16200000">
              <a:off x="6843240" y="476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rot="16200000">
              <a:off x="7023240" y="476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 rot="16200000">
              <a:off x="7202520" y="476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 rot="16200000">
              <a:off x="7383240" y="476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rot="16200000">
              <a:off x="7562520" y="476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 rot="16200000">
              <a:off x="6663240" y="494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 rot="16200000">
              <a:off x="6843240" y="494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rot="16200000">
              <a:off x="7023240" y="494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rot="16200000">
              <a:off x="7202520" y="494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rot="16200000">
              <a:off x="7383240" y="494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rot="16200000">
              <a:off x="7562520" y="494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rot="16200000">
              <a:off x="6663240" y="512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rot="16200000">
              <a:off x="6843240" y="512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rot="16200000">
              <a:off x="7023240" y="512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rot="16200000">
              <a:off x="7202520" y="512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rot="16200000">
              <a:off x="7383240" y="512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rot="16200000">
              <a:off x="7562520" y="512100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341440" y="1701720"/>
            <a:ext cx="1079640" cy="719280"/>
            <a:chOff x="2341440" y="1701720"/>
            <a:chExt cx="1079640" cy="719280"/>
          </a:xfrm>
        </p:grpSpPr>
        <p:sp>
          <p:nvSpPr>
            <p:cNvPr id="1143" name=""/>
            <p:cNvSpPr/>
            <p:nvPr/>
          </p:nvSpPr>
          <p:spPr>
            <a:xfrm flipH="1" rot="16200000">
              <a:off x="2341800" y="170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 rot="16200000">
              <a:off x="2521800" y="170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rot="16200000">
              <a:off x="2701800" y="170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rot="16200000">
              <a:off x="2881080" y="170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rot="16200000">
              <a:off x="3062160" y="170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 rot="16200000">
              <a:off x="3241440" y="170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rot="16200000">
              <a:off x="2341800" y="188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rot="16200000">
              <a:off x="2521800" y="188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rot="16200000">
              <a:off x="2701800" y="188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rot="16200000">
              <a:off x="2881080" y="188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rot="16200000">
              <a:off x="3062160" y="188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rot="16200000">
              <a:off x="3241440" y="188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 rot="16200000">
              <a:off x="2341800" y="206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 rot="16200000">
              <a:off x="2521800" y="206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rot="16200000">
              <a:off x="2701800" y="206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rot="16200000">
              <a:off x="2881080" y="206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 rot="16200000">
              <a:off x="3062160" y="206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rot="16200000">
              <a:off x="3241440" y="206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rot="16200000">
              <a:off x="2341800" y="224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rot="16200000">
              <a:off x="2521800" y="224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rot="16200000">
              <a:off x="2701800" y="224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rot="16200000">
              <a:off x="2881080" y="224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rot="16200000">
              <a:off x="3062160" y="224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rot="16200000">
              <a:off x="3241440" y="224136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7778160" y="3213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826920" y="3789360"/>
            <a:ext cx="179640" cy="719280"/>
            <a:chOff x="826920" y="3789360"/>
            <a:chExt cx="179640" cy="719280"/>
          </a:xfrm>
        </p:grpSpPr>
        <p:sp>
          <p:nvSpPr>
            <p:cNvPr id="1169" name=""/>
            <p:cNvSpPr/>
            <p:nvPr/>
          </p:nvSpPr>
          <p:spPr>
            <a:xfrm>
              <a:off x="826920" y="378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26920" y="396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6920" y="414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26920" y="432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826920" y="4510080"/>
            <a:ext cx="179640" cy="719280"/>
            <a:chOff x="826920" y="4510080"/>
            <a:chExt cx="179640" cy="719280"/>
          </a:xfrm>
        </p:grpSpPr>
        <p:sp>
          <p:nvSpPr>
            <p:cNvPr id="1174" name=""/>
            <p:cNvSpPr/>
            <p:nvPr/>
          </p:nvSpPr>
          <p:spPr>
            <a:xfrm>
              <a:off x="826920" y="451008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26920" y="469008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26920" y="487008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26920" y="504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826920" y="2349360"/>
            <a:ext cx="179640" cy="719280"/>
            <a:chOff x="826920" y="2349360"/>
            <a:chExt cx="179640" cy="719280"/>
          </a:xfrm>
        </p:grpSpPr>
        <p:sp>
          <p:nvSpPr>
            <p:cNvPr id="1179" name=""/>
            <p:cNvSpPr/>
            <p:nvPr/>
          </p:nvSpPr>
          <p:spPr>
            <a:xfrm>
              <a:off x="826920" y="234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26920" y="252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6920" y="270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26920" y="288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826920" y="1628640"/>
            <a:ext cx="179640" cy="719280"/>
            <a:chOff x="826920" y="1628640"/>
            <a:chExt cx="179640" cy="719280"/>
          </a:xfrm>
        </p:grpSpPr>
        <p:sp>
          <p:nvSpPr>
            <p:cNvPr id="1184" name=""/>
            <p:cNvSpPr/>
            <p:nvPr/>
          </p:nvSpPr>
          <p:spPr>
            <a:xfrm>
              <a:off x="826920" y="162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6920" y="180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6920" y="198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6920" y="216792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042000" y="382284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10560" y="155736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30120" y="1557360"/>
            <a:ext cx="441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592840" y="1268280"/>
            <a:ext cx="441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29720" y="306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29720" y="234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29720" y="378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29720" y="450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2482560" y="3284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2482560" y="256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482560" y="4005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2482560" y="472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56240" y="3141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825624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8256240" y="530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8256240" y="421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rect temporal invers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468360" y="3070080"/>
            <a:ext cx="179280" cy="719280"/>
            <a:chOff x="468360" y="3070080"/>
            <a:chExt cx="179280" cy="719280"/>
          </a:xfrm>
        </p:grpSpPr>
        <p:sp>
          <p:nvSpPr>
            <p:cNvPr id="1206" name=""/>
            <p:cNvSpPr/>
            <p:nvPr/>
          </p:nvSpPr>
          <p:spPr>
            <a:xfrm>
              <a:off x="468360" y="307008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8360" y="325008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8360" y="343008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68360" y="3609360"/>
              <a:ext cx="179280" cy="18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1116000" y="2206800"/>
            <a:ext cx="360360" cy="2374560"/>
          </a:xfrm>
          <a:custGeom>
            <a:avLst/>
            <a:gdLst>
              <a:gd name="textAreaLeft" fmla="*/ 105840 w 360360"/>
              <a:gd name="textAreaRight" fmla="*/ 360720 w 360360"/>
              <a:gd name="textAreaTop" fmla="*/ 98640 h 2374560"/>
              <a:gd name="textAreaBottom" fmla="*/ 2275920 h 23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634560" y="2206800"/>
            <a:ext cx="360360" cy="2374560"/>
          </a:xfrm>
          <a:custGeom>
            <a:avLst/>
            <a:gdLst>
              <a:gd name="textAreaLeft" fmla="*/ 105480 w 360360"/>
              <a:gd name="textAreaRight" fmla="*/ 360360 w 360360"/>
              <a:gd name="textAreaTop" fmla="*/ 98640 h 2374560"/>
              <a:gd name="textAreaBottom" fmla="*/ 2275920 h 23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4500720" y="3141720"/>
            <a:ext cx="179280" cy="1079280"/>
            <a:chOff x="4500720" y="3141720"/>
            <a:chExt cx="179280" cy="1079280"/>
          </a:xfrm>
        </p:grpSpPr>
        <p:sp>
          <p:nvSpPr>
            <p:cNvPr id="1213" name=""/>
            <p:cNvSpPr/>
            <p:nvPr/>
          </p:nvSpPr>
          <p:spPr>
            <a:xfrm>
              <a:off x="4501440" y="314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01440" y="332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01440" y="350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01440" y="368100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00720" y="386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00720" y="404100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497480" y="4221000"/>
            <a:ext cx="179280" cy="1079640"/>
            <a:chOff x="4497480" y="4221000"/>
            <a:chExt cx="179280" cy="1079640"/>
          </a:xfrm>
        </p:grpSpPr>
        <p:sp>
          <p:nvSpPr>
            <p:cNvPr id="1220" name=""/>
            <p:cNvSpPr/>
            <p:nvPr/>
          </p:nvSpPr>
          <p:spPr>
            <a:xfrm>
              <a:off x="4498200" y="422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498200" y="440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98200" y="45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98200" y="476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97480" y="49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97480" y="512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4498920" y="5302080"/>
            <a:ext cx="179280" cy="1079640"/>
            <a:chOff x="4498920" y="5302080"/>
            <a:chExt cx="179280" cy="1079640"/>
          </a:xfrm>
        </p:grpSpPr>
        <p:sp>
          <p:nvSpPr>
            <p:cNvPr id="1227" name=""/>
            <p:cNvSpPr/>
            <p:nvPr/>
          </p:nvSpPr>
          <p:spPr>
            <a:xfrm>
              <a:off x="4499640" y="530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99640" y="548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499640" y="56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99640" y="58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98920" y="602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498920" y="620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4498920" y="981000"/>
            <a:ext cx="179280" cy="1079640"/>
            <a:chOff x="4498920" y="981000"/>
            <a:chExt cx="179280" cy="1079640"/>
          </a:xfrm>
        </p:grpSpPr>
        <p:sp>
          <p:nvSpPr>
            <p:cNvPr id="1234" name=""/>
            <p:cNvSpPr/>
            <p:nvPr/>
          </p:nvSpPr>
          <p:spPr>
            <a:xfrm>
              <a:off x="4499640" y="9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499640" y="116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499640" y="134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499640" y="152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98920" y="17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98920" y="188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4500720" y="2062080"/>
            <a:ext cx="179280" cy="1079640"/>
            <a:chOff x="4500720" y="2062080"/>
            <a:chExt cx="179280" cy="1079640"/>
          </a:xfrm>
        </p:grpSpPr>
        <p:sp>
          <p:nvSpPr>
            <p:cNvPr id="1241" name=""/>
            <p:cNvSpPr/>
            <p:nvPr/>
          </p:nvSpPr>
          <p:spPr>
            <a:xfrm>
              <a:off x="4501440" y="20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01440" y="224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01440" y="242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01440" y="26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00720" y="278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00720" y="296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1189080" y="2567160"/>
            <a:ext cx="2698200" cy="1797840"/>
            <a:chOff x="1189080" y="2567160"/>
            <a:chExt cx="2698200" cy="1797840"/>
          </a:xfrm>
        </p:grpSpPr>
        <p:grpSp>
          <p:nvGrpSpPr>
            <p:cNvPr id="1248" name=""/>
            <p:cNvGrpSpPr/>
            <p:nvPr/>
          </p:nvGrpSpPr>
          <p:grpSpPr>
            <a:xfrm>
              <a:off x="2270160" y="3286800"/>
              <a:ext cx="538920" cy="358920"/>
              <a:chOff x="2270160" y="3286800"/>
              <a:chExt cx="538920" cy="358920"/>
            </a:xfrm>
          </p:grpSpPr>
          <p:sp>
            <p:nvSpPr>
              <p:cNvPr id="1249" name=""/>
              <p:cNvSpPr/>
              <p:nvPr/>
            </p:nvSpPr>
            <p:spPr>
              <a:xfrm flipH="1" rot="16200000">
                <a:off x="2269800" y="328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 rot="16200000">
                <a:off x="2359440" y="328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 rot="16200000">
                <a:off x="2449440" y="328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rot="16200000">
                <a:off x="2539080" y="328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rot="16200000">
                <a:off x="2629440" y="328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rot="16200000">
                <a:off x="2719080" y="328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rot="16200000">
                <a:off x="2269800" y="337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 rot="16200000">
                <a:off x="2359440" y="337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rot="16200000">
                <a:off x="2449440" y="337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rot="16200000">
                <a:off x="2539080" y="337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 rot="16200000">
                <a:off x="2629440" y="337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 rot="16200000">
                <a:off x="2719080" y="337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rot="16200000">
                <a:off x="2269800" y="346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 rot="16200000">
                <a:off x="2359440" y="346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 rot="16200000">
                <a:off x="2449440" y="346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 rot="16200000">
                <a:off x="2539080" y="346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 rot="16200000">
                <a:off x="2629440" y="346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rot="16200000">
                <a:off x="2719080" y="346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rot="16200000">
                <a:off x="2269800" y="355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 rot="16200000">
                <a:off x="2359440" y="355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 rot="16200000">
                <a:off x="2449440" y="355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 rot="16200000">
                <a:off x="2539080" y="355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rot="16200000">
                <a:off x="2629440" y="355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 rot="16200000">
                <a:off x="2719080" y="355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2808720" y="3646800"/>
              <a:ext cx="538920" cy="358920"/>
              <a:chOff x="2808720" y="3646800"/>
              <a:chExt cx="538920" cy="358920"/>
            </a:xfrm>
          </p:grpSpPr>
          <p:sp>
            <p:nvSpPr>
              <p:cNvPr id="1274" name=""/>
              <p:cNvSpPr/>
              <p:nvPr/>
            </p:nvSpPr>
            <p:spPr>
              <a:xfrm flipH="1" rot="16200000">
                <a:off x="2808360" y="36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 rot="16200000">
                <a:off x="2898000" y="36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 rot="16200000">
                <a:off x="2988000" y="36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 rot="16200000">
                <a:off x="3077640" y="36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rot="16200000">
                <a:off x="3168000" y="36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rot="16200000">
                <a:off x="3257640" y="36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 rot="16200000">
                <a:off x="2808360" y="373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 rot="16200000">
                <a:off x="2898000" y="373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rot="16200000">
                <a:off x="2988000" y="373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rot="16200000">
                <a:off x="3077640" y="373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rot="16200000">
                <a:off x="3168000" y="373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 rot="16200000">
                <a:off x="3257640" y="373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 rot="16200000">
                <a:off x="2808360" y="38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rot="16200000">
                <a:off x="2898000" y="38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 rot="16200000">
                <a:off x="2988000" y="38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rot="16200000">
                <a:off x="3077640" y="38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 rot="16200000">
                <a:off x="3168000" y="38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 rot="16200000">
                <a:off x="3257640" y="38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rot="16200000">
                <a:off x="2808360" y="391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 rot="16200000">
                <a:off x="2898000" y="391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 rot="16200000">
                <a:off x="2988000" y="391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 rot="16200000">
                <a:off x="3077640" y="391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 rot="16200000">
                <a:off x="3168000" y="391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 rot="16200000">
                <a:off x="3257640" y="391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1729080" y="2926440"/>
              <a:ext cx="538920" cy="358920"/>
              <a:chOff x="1729080" y="2926440"/>
              <a:chExt cx="538920" cy="358920"/>
            </a:xfrm>
          </p:grpSpPr>
          <p:sp>
            <p:nvSpPr>
              <p:cNvPr id="1299" name=""/>
              <p:cNvSpPr/>
              <p:nvPr/>
            </p:nvSpPr>
            <p:spPr>
              <a:xfrm flipH="1" rot="16200000">
                <a:off x="1728720" y="29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rot="16200000">
                <a:off x="1818360" y="29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 rot="16200000">
                <a:off x="1908360" y="29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rot="16200000">
                <a:off x="1998000" y="29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rot="16200000">
                <a:off x="2088360" y="29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 rot="16200000">
                <a:off x="2178000" y="292608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 rot="16200000">
                <a:off x="1728720" y="301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 rot="16200000">
                <a:off x="1818360" y="301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 rot="16200000">
                <a:off x="1908360" y="301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 rot="16200000">
                <a:off x="1998000" y="301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rot="16200000">
                <a:off x="2088360" y="301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 rot="16200000">
                <a:off x="2178000" y="301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6200000">
                <a:off x="1728720" y="31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16200000">
                <a:off x="1818360" y="31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6200000">
                <a:off x="1908360" y="31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6200000">
                <a:off x="1998000" y="31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6200000">
                <a:off x="2088360" y="31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6200000">
                <a:off x="2178000" y="31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rot="16200000">
                <a:off x="1728720" y="319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rot="16200000">
                <a:off x="1818360" y="319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rot="16200000">
                <a:off x="1908360" y="319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 rot="16200000">
                <a:off x="1998000" y="319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 rot="16200000">
                <a:off x="2088360" y="319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 rot="16200000">
                <a:off x="2178000" y="319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3348360" y="4006080"/>
              <a:ext cx="538920" cy="358920"/>
              <a:chOff x="3348360" y="4006080"/>
              <a:chExt cx="538920" cy="358920"/>
            </a:xfrm>
          </p:grpSpPr>
          <p:sp>
            <p:nvSpPr>
              <p:cNvPr id="1324" name=""/>
              <p:cNvSpPr/>
              <p:nvPr/>
            </p:nvSpPr>
            <p:spPr>
              <a:xfrm flipH="1" rot="16200000">
                <a:off x="3348000" y="40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rot="16200000">
                <a:off x="3437640" y="40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rot="16200000">
                <a:off x="3527640" y="40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 rot="16200000">
                <a:off x="3617280" y="40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rot="16200000">
                <a:off x="3707640" y="40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 rot="16200000">
                <a:off x="3797280" y="400572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 rot="16200000">
                <a:off x="3348000" y="409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 rot="16200000">
                <a:off x="3437640" y="409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 rot="16200000">
                <a:off x="3527640" y="409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 rot="16200000">
                <a:off x="3617280" y="409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rot="16200000">
                <a:off x="3707640" y="409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rot="16200000">
                <a:off x="3797280" y="409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6200000">
                <a:off x="3348000" y="418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6200000">
                <a:off x="3437640" y="418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16200000">
                <a:off x="3527640" y="418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6200000">
                <a:off x="3617280" y="418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6200000">
                <a:off x="3707640" y="418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6200000">
                <a:off x="3797280" y="418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6200000">
                <a:off x="3348000" y="427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 rot="16200000">
                <a:off x="3437640" y="427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 rot="16200000">
                <a:off x="3527640" y="427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 rot="16200000">
                <a:off x="3617280" y="427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rot="16200000">
                <a:off x="3707640" y="427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 rot="16200000">
                <a:off x="3797280" y="427536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1189080" y="2567160"/>
              <a:ext cx="538920" cy="358920"/>
              <a:chOff x="1189080" y="2567160"/>
              <a:chExt cx="538920" cy="358920"/>
            </a:xfrm>
          </p:grpSpPr>
          <p:sp>
            <p:nvSpPr>
              <p:cNvPr id="1349" name=""/>
              <p:cNvSpPr/>
              <p:nvPr/>
            </p:nvSpPr>
            <p:spPr>
              <a:xfrm flipH="1" rot="16200000">
                <a:off x="1188720" y="256680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16200000">
                <a:off x="1278360" y="256680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6200000">
                <a:off x="1368360" y="256680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6200000">
                <a:off x="1458000" y="256680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6200000">
                <a:off x="1548360" y="256680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6200000">
                <a:off x="1638000" y="256680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 rot="16200000">
                <a:off x="1188720" y="265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 rot="16200000">
                <a:off x="1278360" y="265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 rot="16200000">
                <a:off x="1368360" y="265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rot="16200000">
                <a:off x="1458000" y="265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 rot="16200000">
                <a:off x="1548360" y="265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6200000">
                <a:off x="1638000" y="265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6200000">
                <a:off x="1188720" y="27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16200000">
                <a:off x="1278360" y="27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6200000">
                <a:off x="1368360" y="27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6200000">
                <a:off x="1458000" y="27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6200000">
                <a:off x="1548360" y="27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6200000">
                <a:off x="1638000" y="274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 rot="16200000">
                <a:off x="1188720" y="283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 rot="16200000">
                <a:off x="1278360" y="283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 rot="16200000">
                <a:off x="1368360" y="283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 rot="16200000">
                <a:off x="1458000" y="283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rot="16200000">
                <a:off x="1548360" y="283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 rot="16200000">
                <a:off x="1638000" y="2836440"/>
                <a:ext cx="89280" cy="89640"/>
              </a:xfrm>
              <a:prstGeom prst="rect">
                <a:avLst/>
              </a:prstGeom>
              <a:solidFill>
                <a:srgbClr val="80808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3" name=""/>
          <p:cNvSpPr/>
          <p:nvPr/>
        </p:nvSpPr>
        <p:spPr>
          <a:xfrm>
            <a:off x="3925440" y="3068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466560" y="3789360"/>
            <a:ext cx="179640" cy="719280"/>
            <a:chOff x="466560" y="3789360"/>
            <a:chExt cx="179640" cy="719280"/>
          </a:xfrm>
        </p:grpSpPr>
        <p:sp>
          <p:nvSpPr>
            <p:cNvPr id="1375" name=""/>
            <p:cNvSpPr/>
            <p:nvPr/>
          </p:nvSpPr>
          <p:spPr>
            <a:xfrm>
              <a:off x="466560" y="378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6560" y="396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6560" y="414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6560" y="432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466560" y="4510080"/>
            <a:ext cx="179640" cy="719280"/>
            <a:chOff x="466560" y="4510080"/>
            <a:chExt cx="179640" cy="719280"/>
          </a:xfrm>
        </p:grpSpPr>
        <p:sp>
          <p:nvSpPr>
            <p:cNvPr id="1380" name=""/>
            <p:cNvSpPr/>
            <p:nvPr/>
          </p:nvSpPr>
          <p:spPr>
            <a:xfrm>
              <a:off x="466560" y="451008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6560" y="469008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66560" y="487008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66560" y="504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466560" y="2349360"/>
            <a:ext cx="179640" cy="719280"/>
            <a:chOff x="466560" y="2349360"/>
            <a:chExt cx="179640" cy="719280"/>
          </a:xfrm>
        </p:grpSpPr>
        <p:sp>
          <p:nvSpPr>
            <p:cNvPr id="1385" name=""/>
            <p:cNvSpPr/>
            <p:nvPr/>
          </p:nvSpPr>
          <p:spPr>
            <a:xfrm>
              <a:off x="466560" y="234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6560" y="252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6560" y="270936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6560" y="288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466560" y="1628640"/>
            <a:ext cx="179640" cy="719280"/>
            <a:chOff x="466560" y="1628640"/>
            <a:chExt cx="179640" cy="719280"/>
          </a:xfrm>
        </p:grpSpPr>
        <p:sp>
          <p:nvSpPr>
            <p:cNvPr id="1390" name=""/>
            <p:cNvSpPr/>
            <p:nvPr/>
          </p:nvSpPr>
          <p:spPr>
            <a:xfrm>
              <a:off x="466560" y="162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6560" y="180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6560" y="198864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6560" y="2167920"/>
              <a:ext cx="179640" cy="18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482840" y="3703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994120" y="2550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13440" y="29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181080" y="1052640"/>
            <a:ext cx="69840" cy="4824000"/>
            <a:chOff x="181080" y="1052640"/>
            <a:chExt cx="69840" cy="4824000"/>
          </a:xfrm>
        </p:grpSpPr>
        <p:sp>
          <p:nvSpPr>
            <p:cNvPr id="1398" name=""/>
            <p:cNvSpPr/>
            <p:nvPr/>
          </p:nvSpPr>
          <p:spPr>
            <a:xfrm>
              <a:off x="25092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8108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4859280" y="1052640"/>
            <a:ext cx="72720" cy="4824000"/>
            <a:chOff x="4859280" y="1052640"/>
            <a:chExt cx="72720" cy="4824000"/>
          </a:xfrm>
        </p:grpSpPr>
        <p:sp>
          <p:nvSpPr>
            <p:cNvPr id="1401" name=""/>
            <p:cNvSpPr/>
            <p:nvPr/>
          </p:nvSpPr>
          <p:spPr>
            <a:xfrm>
              <a:off x="493200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85928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3" name=""/>
          <p:cNvSpPr/>
          <p:nvPr/>
        </p:nvSpPr>
        <p:spPr>
          <a:xfrm>
            <a:off x="6516720" y="2637000"/>
            <a:ext cx="360360" cy="1728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7235280" y="2637000"/>
            <a:ext cx="360360" cy="1728720"/>
          </a:xfrm>
          <a:custGeom>
            <a:avLst/>
            <a:gdLst>
              <a:gd name="textAreaLeft" fmla="*/ 105480 w 360360"/>
              <a:gd name="textAreaRight" fmla="*/ 36036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591240" y="30700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995080" y="299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5832360" y="3141720"/>
            <a:ext cx="179640" cy="1079280"/>
            <a:chOff x="5832360" y="3141720"/>
            <a:chExt cx="179640" cy="1079280"/>
          </a:xfrm>
        </p:grpSpPr>
        <p:sp>
          <p:nvSpPr>
            <p:cNvPr id="1408" name=""/>
            <p:cNvSpPr/>
            <p:nvPr/>
          </p:nvSpPr>
          <p:spPr>
            <a:xfrm>
              <a:off x="5833080" y="314172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33080" y="332172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33080" y="350172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33080" y="368100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32360" y="386172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32360" y="404100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829480" y="4221000"/>
            <a:ext cx="179280" cy="1079640"/>
            <a:chOff x="5829480" y="4221000"/>
            <a:chExt cx="179280" cy="1079640"/>
          </a:xfrm>
        </p:grpSpPr>
        <p:sp>
          <p:nvSpPr>
            <p:cNvPr id="1415" name=""/>
            <p:cNvSpPr/>
            <p:nvPr/>
          </p:nvSpPr>
          <p:spPr>
            <a:xfrm>
              <a:off x="5830200" y="422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200" y="440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0200" y="45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0200" y="476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29480" y="49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29480" y="512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830920" y="5302080"/>
            <a:ext cx="179280" cy="1079640"/>
            <a:chOff x="5830920" y="5302080"/>
            <a:chExt cx="179280" cy="1079640"/>
          </a:xfrm>
        </p:grpSpPr>
        <p:sp>
          <p:nvSpPr>
            <p:cNvPr id="1422" name=""/>
            <p:cNvSpPr/>
            <p:nvPr/>
          </p:nvSpPr>
          <p:spPr>
            <a:xfrm>
              <a:off x="5831640" y="530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31640" y="548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31640" y="56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31640" y="58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30920" y="602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30920" y="620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5830920" y="981000"/>
            <a:ext cx="179280" cy="1079640"/>
            <a:chOff x="5830920" y="981000"/>
            <a:chExt cx="179280" cy="1079640"/>
          </a:xfrm>
        </p:grpSpPr>
        <p:sp>
          <p:nvSpPr>
            <p:cNvPr id="1429" name=""/>
            <p:cNvSpPr/>
            <p:nvPr/>
          </p:nvSpPr>
          <p:spPr>
            <a:xfrm>
              <a:off x="5831640" y="9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31640" y="116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31640" y="134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31640" y="152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30920" y="17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30920" y="188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5832360" y="2062080"/>
            <a:ext cx="179640" cy="1079640"/>
            <a:chOff x="5832360" y="2062080"/>
            <a:chExt cx="179640" cy="1079640"/>
          </a:xfrm>
        </p:grpSpPr>
        <p:sp>
          <p:nvSpPr>
            <p:cNvPr id="1436" name=""/>
            <p:cNvSpPr/>
            <p:nvPr/>
          </p:nvSpPr>
          <p:spPr>
            <a:xfrm>
              <a:off x="5833080" y="206208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33080" y="224208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833080" y="242208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33080" y="260136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32360" y="278244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832360" y="296172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651640" y="1052640"/>
            <a:ext cx="72360" cy="4824000"/>
            <a:chOff x="5651640" y="1052640"/>
            <a:chExt cx="72360" cy="4824000"/>
          </a:xfrm>
        </p:grpSpPr>
        <p:sp>
          <p:nvSpPr>
            <p:cNvPr id="1443" name=""/>
            <p:cNvSpPr/>
            <p:nvPr/>
          </p:nvSpPr>
          <p:spPr>
            <a:xfrm>
              <a:off x="572400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65164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969800" y="3068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7738920" y="1052640"/>
            <a:ext cx="72720" cy="4824000"/>
            <a:chOff x="7738920" y="1052640"/>
            <a:chExt cx="72720" cy="4824000"/>
          </a:xfrm>
        </p:grpSpPr>
        <p:sp>
          <p:nvSpPr>
            <p:cNvPr id="1447" name=""/>
            <p:cNvSpPr/>
            <p:nvPr/>
          </p:nvSpPr>
          <p:spPr>
            <a:xfrm>
              <a:off x="781164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8920" y="1052640"/>
              <a:ext cx="0" cy="48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7930080" y="5445000"/>
            <a:ext cx="8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P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956720" y="5445000"/>
            <a:ext cx="360360" cy="863640"/>
          </a:xfrm>
          <a:custGeom>
            <a:avLst/>
            <a:gdLst>
              <a:gd name="textAreaLeft" fmla="*/ 105840 w 360360"/>
              <a:gd name="textAreaRight" fmla="*/ 360720 w 36036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8458920" y="5445000"/>
            <a:ext cx="360360" cy="863640"/>
          </a:xfrm>
          <a:custGeom>
            <a:avLst/>
            <a:gdLst>
              <a:gd name="textAreaLeft" fmla="*/ 105480 w 360360"/>
              <a:gd name="textAreaRight" fmla="*/ 360360 w 36036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67560" y="85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749000" y="861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369360" y="306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369360" y="234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369360" y="3789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69360" y="4508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5744880" y="3141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574488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5744880" y="530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5744880" y="421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4393800" y="3141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439380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4393800" y="530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4393800" y="4219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emporal Pr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476360" y="1989000"/>
            <a:ext cx="360360" cy="1729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72000 h 1729080"/>
              <a:gd name="textAreaBottom" fmla="*/ 1657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194920" y="1989000"/>
            <a:ext cx="360360" cy="1729080"/>
          </a:xfrm>
          <a:custGeom>
            <a:avLst/>
            <a:gdLst>
              <a:gd name="textAreaLeft" fmla="*/ 105480 w 360360"/>
              <a:gd name="textAreaRight" fmla="*/ 360360 w 360360"/>
              <a:gd name="textAreaTop" fmla="*/ 72000 h 1729080"/>
              <a:gd name="textAreaBottom" fmla="*/ 1657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550880" y="242244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954720" y="2349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792000" y="2494080"/>
            <a:ext cx="179640" cy="1079280"/>
            <a:chOff x="792000" y="2494080"/>
            <a:chExt cx="179640" cy="1079280"/>
          </a:xfrm>
        </p:grpSpPr>
        <p:sp>
          <p:nvSpPr>
            <p:cNvPr id="1472" name=""/>
            <p:cNvSpPr/>
            <p:nvPr/>
          </p:nvSpPr>
          <p:spPr>
            <a:xfrm>
              <a:off x="792720" y="249408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2720" y="267408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92720" y="285408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2720" y="303336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2000" y="321408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92000" y="3393360"/>
              <a:ext cx="17892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789120" y="3573360"/>
            <a:ext cx="179280" cy="1079640"/>
            <a:chOff x="789120" y="3573360"/>
            <a:chExt cx="179280" cy="1079640"/>
          </a:xfrm>
        </p:grpSpPr>
        <p:sp>
          <p:nvSpPr>
            <p:cNvPr id="1479" name=""/>
            <p:cNvSpPr/>
            <p:nvPr/>
          </p:nvSpPr>
          <p:spPr>
            <a:xfrm>
              <a:off x="789840" y="3573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9840" y="3753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9840" y="3933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9840" y="4112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89120" y="4293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9120" y="4473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90560" y="4654440"/>
            <a:ext cx="179280" cy="1079640"/>
            <a:chOff x="790560" y="4654440"/>
            <a:chExt cx="179280" cy="1079640"/>
          </a:xfrm>
        </p:grpSpPr>
        <p:sp>
          <p:nvSpPr>
            <p:cNvPr id="1486" name=""/>
            <p:cNvSpPr/>
            <p:nvPr/>
          </p:nvSpPr>
          <p:spPr>
            <a:xfrm>
              <a:off x="791280" y="4654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91280" y="4834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91280" y="5014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91280" y="5193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90560" y="53748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90560" y="5554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790560" y="333360"/>
            <a:ext cx="179280" cy="1079640"/>
            <a:chOff x="790560" y="333360"/>
            <a:chExt cx="179280" cy="1079640"/>
          </a:xfrm>
        </p:grpSpPr>
        <p:sp>
          <p:nvSpPr>
            <p:cNvPr id="1493" name=""/>
            <p:cNvSpPr/>
            <p:nvPr/>
          </p:nvSpPr>
          <p:spPr>
            <a:xfrm>
              <a:off x="791280" y="333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1280" y="513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1280" y="693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1280" y="872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90560" y="1053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90560" y="1233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792000" y="1414440"/>
            <a:ext cx="179640" cy="1079640"/>
            <a:chOff x="792000" y="1414440"/>
            <a:chExt cx="179640" cy="1079640"/>
          </a:xfrm>
        </p:grpSpPr>
        <p:sp>
          <p:nvSpPr>
            <p:cNvPr id="1500" name=""/>
            <p:cNvSpPr/>
            <p:nvPr/>
          </p:nvSpPr>
          <p:spPr>
            <a:xfrm>
              <a:off x="792720" y="141444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92720" y="159444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92720" y="177444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92720" y="195372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92000" y="213480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92000" y="2314080"/>
              <a:ext cx="17892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11280" y="404640"/>
            <a:ext cx="72720" cy="4824360"/>
            <a:chOff x="611280" y="404640"/>
            <a:chExt cx="72720" cy="4824360"/>
          </a:xfrm>
        </p:grpSpPr>
        <p:sp>
          <p:nvSpPr>
            <p:cNvPr id="1507" name=""/>
            <p:cNvSpPr/>
            <p:nvPr/>
          </p:nvSpPr>
          <p:spPr>
            <a:xfrm>
              <a:off x="684000" y="404640"/>
              <a:ext cx="0" cy="48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11280" y="404640"/>
              <a:ext cx="0" cy="48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2698920" y="404640"/>
            <a:ext cx="72360" cy="4824360"/>
            <a:chOff x="2698920" y="404640"/>
            <a:chExt cx="72360" cy="4824360"/>
          </a:xfrm>
        </p:grpSpPr>
        <p:sp>
          <p:nvSpPr>
            <p:cNvPr id="1510" name=""/>
            <p:cNvSpPr/>
            <p:nvPr/>
          </p:nvSpPr>
          <p:spPr>
            <a:xfrm>
              <a:off x="2771280" y="404640"/>
              <a:ext cx="0" cy="48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698920" y="404640"/>
              <a:ext cx="0" cy="48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3059280" y="1413000"/>
            <a:ext cx="360360" cy="4752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98000 h 4752720"/>
              <a:gd name="textAreaBottom" fmla="*/ 4554720 h 47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7811280" y="1157400"/>
            <a:ext cx="360360" cy="5008320"/>
          </a:xfrm>
          <a:custGeom>
            <a:avLst/>
            <a:gdLst>
              <a:gd name="textAreaLeft" fmla="*/ 105480 w 360360"/>
              <a:gd name="textAreaRight" fmla="*/ 360360 w 360360"/>
              <a:gd name="textAreaTop" fmla="*/ 208440 h 5008320"/>
              <a:gd name="textAreaBottom" fmla="*/ 4799880 h 500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203640" y="1628640"/>
            <a:ext cx="936720" cy="8953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140360" y="2521080"/>
            <a:ext cx="936360" cy="8953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075280" y="3416400"/>
            <a:ext cx="936720" cy="8953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12000" y="4334040"/>
            <a:ext cx="936360" cy="8953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948360" y="5229360"/>
            <a:ext cx="936720" cy="89532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12000" y="3429000"/>
            <a:ext cx="93636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012000" y="2533680"/>
            <a:ext cx="93636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12000" y="1631880"/>
            <a:ext cx="93636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948360" y="433404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948360" y="3438360"/>
            <a:ext cx="936720" cy="8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948360" y="253692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076720" y="253368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76720" y="163836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948360" y="162864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40360" y="1628640"/>
            <a:ext cx="93636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075280" y="430524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012000" y="5210280"/>
            <a:ext cx="93636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140360" y="3409920"/>
            <a:ext cx="93636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203640" y="250524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138560" y="430380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075280" y="520848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203640" y="340848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203640" y="4292640"/>
            <a:ext cx="936720" cy="89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40360" y="5197320"/>
            <a:ext cx="936360" cy="8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203640" y="5197320"/>
            <a:ext cx="936720" cy="8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t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696600" y="24940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696600" y="141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696600" y="4653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696600" y="35719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ne-step 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formulate the one step invers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1835280" y="1947960"/>
                <a:ext cx="5591160" cy="18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x</m:t>
                                </m:r>
                              </m:e>
                            </m:d>
                          </m:e>
                          <m:sub>
                            <m:r>
                              <m:t xml:space="preserve">W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W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6" name=""/>
          <p:cNvSpPr/>
          <p:nvPr/>
        </p:nvSpPr>
        <p:spPr>
          <a:xfrm>
            <a:off x="46836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eed to cut matrix afterward, we only want to estimate current image from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 is size of matrix inver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2 time steps, we have 5 x num_elems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derdetermined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formulate the one step invers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3040" y="1700280"/>
                <a:ext cx="71136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Wz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R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0" name=""/>
          <p:cNvSpPr/>
          <p:nvPr/>
        </p:nvSpPr>
        <p:spPr>
          <a:xfrm>
            <a:off x="395280" y="3429000"/>
            <a:ext cx="82296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matrix inverse is small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2 time steps, we have 5 x num_meas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re modelled directly. No need to take the in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N vs. Temporal 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6352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uss-Newto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5.3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22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01660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mporal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4 time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34.81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6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ise free data (IIRC ta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ata with added 6dB SNR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Gauss Newton vs. Temporal Inverse (6db SN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63520" y="475632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uss-Newto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5.3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22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016600" y="475632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mporal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4 time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34.81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6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587520" y="162864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oral priors can improve EIT imag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oral priors can be computationally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’re also looking at efficient iterative implementations, allowing reconstruction of entire frame sequence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ward Model (linear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19280" y="3068640"/>
            <a:ext cx="358920" cy="1440000"/>
            <a:chOff x="1619280" y="3068640"/>
            <a:chExt cx="358920" cy="1440000"/>
          </a:xfrm>
        </p:grpSpPr>
        <p:sp>
          <p:nvSpPr>
            <p:cNvPr id="48" name=""/>
            <p:cNvSpPr/>
            <p:nvPr/>
          </p:nvSpPr>
          <p:spPr>
            <a:xfrm>
              <a:off x="1619280" y="306864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342900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19280" y="378936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9280" y="414828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27280" y="3068640"/>
            <a:ext cx="2160360" cy="1440000"/>
            <a:chOff x="2627280" y="3068640"/>
            <a:chExt cx="2160360" cy="1440000"/>
          </a:xfrm>
        </p:grpSpPr>
        <p:sp>
          <p:nvSpPr>
            <p:cNvPr id="53" name=""/>
            <p:cNvSpPr/>
            <p:nvPr/>
          </p:nvSpPr>
          <p:spPr>
            <a:xfrm flipH="1" rot="16200000">
              <a:off x="262764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6200000">
              <a:off x="298800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334836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6200000">
              <a:off x="370692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6200000">
              <a:off x="406908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6200000">
              <a:off x="442764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6200000">
              <a:off x="262764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6200000">
              <a:off x="298800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6200000">
              <a:off x="334836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6200000">
              <a:off x="370692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6200000">
              <a:off x="406908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6200000">
              <a:off x="442764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6200000">
              <a:off x="262764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6200000">
              <a:off x="298800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6200000">
              <a:off x="334836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6200000">
              <a:off x="370692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6200000">
              <a:off x="406908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6200000">
              <a:off x="442764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6200000">
              <a:off x="262764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6200000">
              <a:off x="298800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6200000">
              <a:off x="334836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6200000">
              <a:off x="370692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6200000">
              <a:off x="406908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6200000">
              <a:off x="442764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052000" y="3397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25440" y="3397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435640" y="2781360"/>
            <a:ext cx="360360" cy="2160360"/>
            <a:chOff x="5435640" y="2781360"/>
            <a:chExt cx="360360" cy="2160360"/>
          </a:xfrm>
        </p:grpSpPr>
        <p:sp>
          <p:nvSpPr>
            <p:cNvPr id="80" name=""/>
            <p:cNvSpPr/>
            <p:nvPr/>
          </p:nvSpPr>
          <p:spPr>
            <a:xfrm>
              <a:off x="5437440" y="2781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3744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37440" y="3502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37440" y="3860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42228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35640" y="4581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00000" y="2924280"/>
            <a:ext cx="576360" cy="57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440" y="213372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(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011640" y="2924280"/>
            <a:ext cx="571320" cy="649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13960" y="213372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(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059280" y="4653000"/>
            <a:ext cx="504720" cy="720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1360" y="5157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0240" y="578016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ystem is under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5680" y="3397320"/>
            <a:ext cx="21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+ no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Sequential Stim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common design for EIT equipment is parallel measurements with sequential current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means that the ‘image’ is different at each current pattern i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can formulate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rect temporal forwar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828720" y="3070080"/>
            <a:ext cx="179280" cy="17964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28720" y="3249720"/>
            <a:ext cx="179280" cy="1807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828720" y="3430440"/>
            <a:ext cx="179280" cy="17964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28720" y="3610080"/>
            <a:ext cx="179280" cy="17928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4505400" y="3284640"/>
            <a:ext cx="1079280" cy="179280"/>
            <a:chOff x="4505400" y="3284640"/>
            <a:chExt cx="1079280" cy="179280"/>
          </a:xfrm>
        </p:grpSpPr>
        <p:sp>
          <p:nvSpPr>
            <p:cNvPr id="1570" name=""/>
            <p:cNvSpPr/>
            <p:nvPr/>
          </p:nvSpPr>
          <p:spPr>
            <a:xfrm flipH="1" rot="16200000">
              <a:off x="4505400" y="328464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 rot="16200000">
              <a:off x="4684320" y="3283560"/>
              <a:ext cx="179280" cy="1810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rot="16200000">
              <a:off x="4865760" y="328464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 rot="16200000">
              <a:off x="5045040" y="328464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 rot="16200000">
              <a:off x="5226120" y="328464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rot="16200000">
              <a:off x="5405400" y="328464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1477440" y="31100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68360" y="2637000"/>
            <a:ext cx="360720" cy="1439640"/>
          </a:xfrm>
          <a:custGeom>
            <a:avLst/>
            <a:gdLst>
              <a:gd name="textAreaLeft" fmla="*/ 105840 w 360720"/>
              <a:gd name="textAreaRight" fmla="*/ 361080 w 360720"/>
              <a:gd name="textAreaTop" fmla="*/ 59760 h 1439640"/>
              <a:gd name="textAreaBottom" fmla="*/ 13798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7452720" y="2637000"/>
            <a:ext cx="360360" cy="1439640"/>
          </a:xfrm>
          <a:custGeom>
            <a:avLst/>
            <a:gdLst>
              <a:gd name="textAreaLeft" fmla="*/ 105480 w 360360"/>
              <a:gd name="textAreaRight" fmla="*/ 360360 w 360360"/>
              <a:gd name="textAreaTop" fmla="*/ 59760 h 1439640"/>
              <a:gd name="textAreaBottom" fmla="*/ 13798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764160" y="580536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Aug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167960" y="5919840"/>
            <a:ext cx="15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Im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110520" y="573408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8353440" y="3141720"/>
            <a:ext cx="179280" cy="1079280"/>
            <a:chOff x="8353440" y="3141720"/>
            <a:chExt cx="179280" cy="1079280"/>
          </a:xfrm>
        </p:grpSpPr>
        <p:sp>
          <p:nvSpPr>
            <p:cNvPr id="1583" name=""/>
            <p:cNvSpPr/>
            <p:nvPr/>
          </p:nvSpPr>
          <p:spPr>
            <a:xfrm>
              <a:off x="8354160" y="314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354160" y="332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354160" y="350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354160" y="368100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353440" y="386172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353440" y="4041000"/>
              <a:ext cx="178560" cy="18000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8350200" y="4221000"/>
            <a:ext cx="179280" cy="1079640"/>
            <a:chOff x="8350200" y="4221000"/>
            <a:chExt cx="179280" cy="1079640"/>
          </a:xfrm>
        </p:grpSpPr>
        <p:sp>
          <p:nvSpPr>
            <p:cNvPr id="1590" name=""/>
            <p:cNvSpPr/>
            <p:nvPr/>
          </p:nvSpPr>
          <p:spPr>
            <a:xfrm>
              <a:off x="8350920" y="422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50920" y="440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350920" y="45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350920" y="476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350200" y="49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350200" y="512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8352000" y="5302080"/>
            <a:ext cx="179280" cy="1079640"/>
            <a:chOff x="8352000" y="5302080"/>
            <a:chExt cx="179280" cy="1079640"/>
          </a:xfrm>
        </p:grpSpPr>
        <p:sp>
          <p:nvSpPr>
            <p:cNvPr id="1597" name=""/>
            <p:cNvSpPr/>
            <p:nvPr/>
          </p:nvSpPr>
          <p:spPr>
            <a:xfrm>
              <a:off x="8352720" y="530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352720" y="548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352720" y="56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52720" y="584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52000" y="602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52000" y="620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8352000" y="981000"/>
            <a:ext cx="179280" cy="1079640"/>
            <a:chOff x="8352000" y="981000"/>
            <a:chExt cx="179280" cy="1079640"/>
          </a:xfrm>
        </p:grpSpPr>
        <p:sp>
          <p:nvSpPr>
            <p:cNvPr id="1604" name=""/>
            <p:cNvSpPr/>
            <p:nvPr/>
          </p:nvSpPr>
          <p:spPr>
            <a:xfrm>
              <a:off x="8352720" y="98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52720" y="116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352720" y="134100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52720" y="15202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352000" y="17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352000" y="18806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8353440" y="2062080"/>
            <a:ext cx="179280" cy="1079640"/>
            <a:chOff x="8353440" y="2062080"/>
            <a:chExt cx="179280" cy="1079640"/>
          </a:xfrm>
        </p:grpSpPr>
        <p:sp>
          <p:nvSpPr>
            <p:cNvPr id="1611" name=""/>
            <p:cNvSpPr/>
            <p:nvPr/>
          </p:nvSpPr>
          <p:spPr>
            <a:xfrm>
              <a:off x="8354160" y="206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354160" y="224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354160" y="242208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354160" y="260136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353440" y="278244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353440" y="2961720"/>
              <a:ext cx="178560" cy="18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7778160" y="3213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4859280" y="981000"/>
            <a:ext cx="1079640" cy="719280"/>
            <a:chOff x="4859280" y="981000"/>
            <a:chExt cx="1079640" cy="719280"/>
          </a:xfrm>
        </p:grpSpPr>
        <p:sp>
          <p:nvSpPr>
            <p:cNvPr id="1619" name=""/>
            <p:cNvSpPr/>
            <p:nvPr/>
          </p:nvSpPr>
          <p:spPr>
            <a:xfrm flipH="1" rot="16200000">
              <a:off x="4859640" y="98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 rot="16200000">
              <a:off x="5039640" y="98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rot="16200000">
              <a:off x="5219640" y="98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 rot="16200000">
              <a:off x="5398920" y="98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rot="16200000">
              <a:off x="5580000" y="98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 rot="16200000">
              <a:off x="5759280" y="98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 rot="16200000">
              <a:off x="4859640" y="116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 rot="16200000">
              <a:off x="5039640" y="116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 rot="16200000">
              <a:off x="5219640" y="116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rot="16200000">
              <a:off x="5398920" y="116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 rot="16200000">
              <a:off x="5580000" y="116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rot="16200000">
              <a:off x="5759280" y="116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rot="16200000">
              <a:off x="4859640" y="134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 rot="16200000">
              <a:off x="5039640" y="134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rot="16200000">
              <a:off x="5219640" y="134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 rot="16200000">
              <a:off x="5398920" y="134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16200000">
              <a:off x="5580000" y="134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rot="16200000">
              <a:off x="5759280" y="134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rot="16200000">
              <a:off x="4859640" y="152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rot="16200000">
              <a:off x="5039640" y="152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rot="16200000">
              <a:off x="5219640" y="152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16200000">
              <a:off x="5398920" y="152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rot="16200000">
              <a:off x="5580000" y="152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5759280" y="1520640"/>
              <a:ext cx="179280" cy="1800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580000" y="3465360"/>
            <a:ext cx="1079280" cy="179280"/>
            <a:chOff x="5580000" y="3465360"/>
            <a:chExt cx="1079280" cy="179280"/>
          </a:xfrm>
        </p:grpSpPr>
        <p:sp>
          <p:nvSpPr>
            <p:cNvPr id="1644" name=""/>
            <p:cNvSpPr/>
            <p:nvPr/>
          </p:nvSpPr>
          <p:spPr>
            <a:xfrm flipH="1" rot="16200000">
              <a:off x="5580000" y="346536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5758920" y="3464280"/>
              <a:ext cx="179280" cy="1810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rot="16200000">
              <a:off x="5940360" y="346536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rot="16200000">
              <a:off x="6119640" y="346536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rot="16200000">
              <a:off x="6300720" y="346536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rot="16200000">
              <a:off x="6480000" y="346536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3419640" y="3105000"/>
            <a:ext cx="1079280" cy="179280"/>
            <a:chOff x="3419640" y="3105000"/>
            <a:chExt cx="1079280" cy="179280"/>
          </a:xfrm>
        </p:grpSpPr>
        <p:sp>
          <p:nvSpPr>
            <p:cNvPr id="1651" name=""/>
            <p:cNvSpPr/>
            <p:nvPr/>
          </p:nvSpPr>
          <p:spPr>
            <a:xfrm flipH="1" rot="16200000">
              <a:off x="3419640" y="310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rot="16200000">
              <a:off x="3598560" y="3103920"/>
              <a:ext cx="179280" cy="1810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rot="16200000">
              <a:off x="3780000" y="310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rot="16200000">
              <a:off x="3959280" y="310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 rot="16200000">
              <a:off x="4140360" y="310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rot="16200000">
              <a:off x="4319640" y="310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2340000" y="2924280"/>
            <a:ext cx="1079280" cy="179280"/>
            <a:chOff x="2340000" y="2924280"/>
            <a:chExt cx="1079280" cy="179280"/>
          </a:xfrm>
        </p:grpSpPr>
        <p:sp>
          <p:nvSpPr>
            <p:cNvPr id="1658" name=""/>
            <p:cNvSpPr/>
            <p:nvPr/>
          </p:nvSpPr>
          <p:spPr>
            <a:xfrm flipH="1" rot="16200000">
              <a:off x="2340000" y="292428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rot="16200000">
              <a:off x="2518920" y="2923200"/>
              <a:ext cx="179280" cy="1810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2700360" y="292428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rot="16200000">
              <a:off x="2879640" y="292428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rot="16200000">
              <a:off x="3060720" y="292428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rot="16200000">
              <a:off x="3240000" y="292428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6661080" y="3645000"/>
            <a:ext cx="1079280" cy="179280"/>
            <a:chOff x="6661080" y="3645000"/>
            <a:chExt cx="1079280" cy="179280"/>
          </a:xfrm>
        </p:grpSpPr>
        <p:sp>
          <p:nvSpPr>
            <p:cNvPr id="1665" name=""/>
            <p:cNvSpPr/>
            <p:nvPr/>
          </p:nvSpPr>
          <p:spPr>
            <a:xfrm flipH="1" rot="16200000">
              <a:off x="6661080" y="364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rot="16200000">
              <a:off x="6840000" y="3643920"/>
              <a:ext cx="179280" cy="1810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rot="16200000">
              <a:off x="7021440" y="364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 rot="16200000">
              <a:off x="7200720" y="364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rot="16200000">
              <a:off x="7381800" y="364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rot="16200000">
              <a:off x="7561080" y="3645000"/>
              <a:ext cx="179280" cy="1792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1" name=""/>
          <p:cNvSpPr/>
          <p:nvPr/>
        </p:nvSpPr>
        <p:spPr>
          <a:xfrm>
            <a:off x="4932360" y="1413000"/>
            <a:ext cx="216000" cy="1800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1628640"/>
            <a:ext cx="1224000" cy="1800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3924360" y="1268280"/>
            <a:ext cx="1008000" cy="1800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2842920" y="1052640"/>
            <a:ext cx="2089080" cy="1800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932360" y="1052640"/>
            <a:ext cx="2448000" cy="2520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826920" y="2890800"/>
            <a:ext cx="179640" cy="179280"/>
          </a:xfrm>
          <a:prstGeom prst="rect">
            <a:avLst/>
          </a:prstGeom>
          <a:solidFill>
            <a:srgbClr val="cc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Gauss Newton vs. Ka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352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uss-Newto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5.3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22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01660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mporal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4 time st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34.81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6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ise free data (IIRC tank) – only one stimulation pattern kept for each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uss Newton solver uses data from nearby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Gauss Newton vs. Kalman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(sequential – noise fre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6352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uss-Newto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5.41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with caching) = 0.38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016600" y="4076640"/>
            <a:ext cx="35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alman s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ime = 14.2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1685" name="" descr=""/>
          <p:cNvPicPr/>
          <p:nvPr/>
        </p:nvPicPr>
        <p:blipFill>
          <a:blip r:embed="rId2"/>
          <a:stretch/>
        </p:blipFill>
        <p:spPr>
          <a:xfrm>
            <a:off x="5437080" y="162864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verse Model (linear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55640" y="3068640"/>
            <a:ext cx="358920" cy="1440000"/>
            <a:chOff x="755640" y="3068640"/>
            <a:chExt cx="358920" cy="1440000"/>
          </a:xfrm>
        </p:grpSpPr>
        <p:sp>
          <p:nvSpPr>
            <p:cNvPr id="97" name=""/>
            <p:cNvSpPr/>
            <p:nvPr/>
          </p:nvSpPr>
          <p:spPr>
            <a:xfrm>
              <a:off x="755640" y="306864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342900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5640" y="378936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5640" y="4148280"/>
              <a:ext cx="358920" cy="36036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63640" y="3068640"/>
            <a:ext cx="2160360" cy="1440000"/>
            <a:chOff x="1763640" y="3068640"/>
            <a:chExt cx="2160360" cy="1440000"/>
          </a:xfrm>
        </p:grpSpPr>
        <p:sp>
          <p:nvSpPr>
            <p:cNvPr id="102" name=""/>
            <p:cNvSpPr/>
            <p:nvPr/>
          </p:nvSpPr>
          <p:spPr>
            <a:xfrm flipH="1" rot="16200000">
              <a:off x="176400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16200000">
              <a:off x="212436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16200000">
              <a:off x="248472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16200000">
              <a:off x="284328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6200000">
              <a:off x="320544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16200000">
              <a:off x="3564000" y="306792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6200000">
              <a:off x="176400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16200000">
              <a:off x="212436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16200000">
              <a:off x="248472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200000">
              <a:off x="284328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16200000">
              <a:off x="320544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rot="16200000">
              <a:off x="3564000" y="342828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16200000">
              <a:off x="176400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rot="16200000">
              <a:off x="212436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6200000">
              <a:off x="248472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6200000">
              <a:off x="284328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6200000">
              <a:off x="320544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6200000">
              <a:off x="3564000" y="378864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6200000">
              <a:off x="176400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6200000">
              <a:off x="212436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16200000">
              <a:off x="248472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rot="16200000">
              <a:off x="284328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6200000">
              <a:off x="320544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16200000">
              <a:off x="3564000" y="4149000"/>
              <a:ext cx="35892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197720" y="33973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96720" y="3397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0" y="2781360"/>
            <a:ext cx="360360" cy="2160360"/>
            <a:chOff x="4572000" y="2781360"/>
            <a:chExt cx="360360" cy="2160360"/>
          </a:xfrm>
        </p:grpSpPr>
        <p:sp>
          <p:nvSpPr>
            <p:cNvPr id="129" name=""/>
            <p:cNvSpPr/>
            <p:nvPr/>
          </p:nvSpPr>
          <p:spPr>
            <a:xfrm>
              <a:off x="4573800" y="2781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380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3800" y="3502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3800" y="3860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2228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4581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1440" y="2421000"/>
            <a:ext cx="69840" cy="2676600"/>
            <a:chOff x="541440" y="2421000"/>
            <a:chExt cx="69840" cy="2676600"/>
          </a:xfrm>
        </p:grpSpPr>
        <p:sp>
          <p:nvSpPr>
            <p:cNvPr id="136" name=""/>
            <p:cNvSpPr/>
            <p:nvPr/>
          </p:nvSpPr>
          <p:spPr>
            <a:xfrm>
              <a:off x="611280" y="242100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440" y="242100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076720" y="2421000"/>
            <a:ext cx="71640" cy="2736720"/>
            <a:chOff x="5076720" y="2421000"/>
            <a:chExt cx="71640" cy="2736720"/>
          </a:xfrm>
        </p:grpSpPr>
        <p:sp>
          <p:nvSpPr>
            <p:cNvPr id="139" name=""/>
            <p:cNvSpPr/>
            <p:nvPr/>
          </p:nvSpPr>
          <p:spPr>
            <a:xfrm>
              <a:off x="5148360" y="242100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76720" y="242100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4643280" y="5229360"/>
            <a:ext cx="576360" cy="1008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22880" y="5229360"/>
            <a:ext cx="263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Norm weigh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1800" y="3397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740720" y="2781360"/>
            <a:ext cx="360360" cy="2160360"/>
            <a:chOff x="7740720" y="2781360"/>
            <a:chExt cx="360360" cy="2160360"/>
          </a:xfrm>
        </p:grpSpPr>
        <p:sp>
          <p:nvSpPr>
            <p:cNvPr id="145" name=""/>
            <p:cNvSpPr/>
            <p:nvPr/>
          </p:nvSpPr>
          <p:spPr>
            <a:xfrm>
              <a:off x="7742520" y="2781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252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42520" y="3502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42520" y="3860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40720" y="42228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40720" y="4581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380360" y="2421000"/>
            <a:ext cx="360360" cy="2952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4880" y="342900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098560" y="2421000"/>
            <a:ext cx="360360" cy="2952720"/>
          </a:xfrm>
          <a:custGeom>
            <a:avLst/>
            <a:gdLst>
              <a:gd name="textAreaLeft" fmla="*/ 105480 w 360360"/>
              <a:gd name="textAreaRight" fmla="*/ 360360 w 36036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99400" y="220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nalt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3560" y="33973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284720" y="2781360"/>
            <a:ext cx="360360" cy="2160360"/>
            <a:chOff x="4284720" y="2781360"/>
            <a:chExt cx="360360" cy="2160360"/>
          </a:xfrm>
        </p:grpSpPr>
        <p:sp>
          <p:nvSpPr>
            <p:cNvPr id="159" name=""/>
            <p:cNvSpPr/>
            <p:nvPr/>
          </p:nvSpPr>
          <p:spPr>
            <a:xfrm>
              <a:off x="4286520" y="2781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8652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6520" y="3502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86520" y="3860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84720" y="42228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84720" y="4581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067280" y="2421000"/>
            <a:ext cx="69840" cy="2676600"/>
            <a:chOff x="4067280" y="2421000"/>
            <a:chExt cx="69840" cy="2676600"/>
          </a:xfrm>
        </p:grpSpPr>
        <p:sp>
          <p:nvSpPr>
            <p:cNvPr id="166" name=""/>
            <p:cNvSpPr/>
            <p:nvPr/>
          </p:nvSpPr>
          <p:spPr>
            <a:xfrm>
              <a:off x="4137120" y="242100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7280" y="242100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164360" y="2421000"/>
            <a:ext cx="71640" cy="2736720"/>
            <a:chOff x="7164360" y="2421000"/>
            <a:chExt cx="71640" cy="2736720"/>
          </a:xfrm>
        </p:grpSpPr>
        <p:sp>
          <p:nvSpPr>
            <p:cNvPr id="169" name=""/>
            <p:cNvSpPr/>
            <p:nvPr/>
          </p:nvSpPr>
          <p:spPr>
            <a:xfrm>
              <a:off x="7236000" y="242100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360" y="242100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96000" y="1989000"/>
            <a:ext cx="576360" cy="1368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42040" y="1197000"/>
            <a:ext cx="21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Zero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Difference 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53800" y="3397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52720" y="2709720"/>
            <a:ext cx="360360" cy="2160360"/>
            <a:chOff x="2052720" y="2709720"/>
            <a:chExt cx="360360" cy="2160360"/>
          </a:xfrm>
        </p:grpSpPr>
        <p:sp>
          <p:nvSpPr>
            <p:cNvPr id="175" name=""/>
            <p:cNvSpPr/>
            <p:nvPr/>
          </p:nvSpPr>
          <p:spPr>
            <a:xfrm>
              <a:off x="2054520" y="2709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4520" y="3070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4520" y="34304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4520" y="37890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2720" y="41511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2720" y="450972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92360" y="2349360"/>
            <a:ext cx="360360" cy="2952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6880" y="33577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410560" y="2349360"/>
            <a:ext cx="360360" cy="2952720"/>
          </a:xfrm>
          <a:custGeom>
            <a:avLst/>
            <a:gdLst>
              <a:gd name="textAreaLeft" fmla="*/ 105480 w 360360"/>
              <a:gd name="textAreaRight" fmla="*/ 360360 w 36036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37080" y="2924280"/>
            <a:ext cx="360360" cy="1728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658920" y="2924280"/>
            <a:ext cx="360360" cy="1728720"/>
          </a:xfrm>
          <a:custGeom>
            <a:avLst/>
            <a:gdLst>
              <a:gd name="textAreaLeft" fmla="*/ 105480 w 360360"/>
              <a:gd name="textAreaRight" fmla="*/ 36036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11240" y="339876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804000" y="5084280"/>
            <a:ext cx="576360" cy="1008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9960" y="5661000"/>
            <a:ext cx="34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Norm weigh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 “</a:t>
            </a: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unlikelyhood” of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98200" y="2212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nalty functions: Imag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24640" y="3036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2421000"/>
            <a:ext cx="360360" cy="2160360"/>
            <a:chOff x="685800" y="2421000"/>
            <a:chExt cx="360360" cy="2160360"/>
          </a:xfrm>
        </p:grpSpPr>
        <p:sp>
          <p:nvSpPr>
            <p:cNvPr id="194" name=""/>
            <p:cNvSpPr/>
            <p:nvPr/>
          </p:nvSpPr>
          <p:spPr>
            <a:xfrm>
              <a:off x="687600" y="24210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7600" y="2781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760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7600" y="35002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386244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42210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68360" y="2060640"/>
            <a:ext cx="69840" cy="2676600"/>
            <a:chOff x="468360" y="2060640"/>
            <a:chExt cx="69840" cy="2676600"/>
          </a:xfrm>
        </p:grpSpPr>
        <p:sp>
          <p:nvSpPr>
            <p:cNvPr id="201" name=""/>
            <p:cNvSpPr/>
            <p:nvPr/>
          </p:nvSpPr>
          <p:spPr>
            <a:xfrm>
              <a:off x="538200" y="206064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360" y="206064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65440" y="2060640"/>
            <a:ext cx="71640" cy="2736720"/>
            <a:chOff x="3565440" y="2060640"/>
            <a:chExt cx="71640" cy="2736720"/>
          </a:xfrm>
        </p:grpSpPr>
        <p:sp>
          <p:nvSpPr>
            <p:cNvPr id="204" name=""/>
            <p:cNvSpPr/>
            <p:nvPr/>
          </p:nvSpPr>
          <p:spPr>
            <a:xfrm>
              <a:off x="3637080" y="206064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5440" y="206064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838160" y="2563920"/>
            <a:ext cx="360360" cy="1728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60000" y="2563920"/>
            <a:ext cx="360360" cy="1728720"/>
          </a:xfrm>
          <a:custGeom>
            <a:avLst/>
            <a:gdLst>
              <a:gd name="textAreaLeft" fmla="*/ 105480 w 360360"/>
              <a:gd name="textAreaRight" fmla="*/ 36036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12680" y="303840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008600" y="4233960"/>
            <a:ext cx="2160000" cy="2160000"/>
            <a:chOff x="4008600" y="4233960"/>
            <a:chExt cx="2160000" cy="2160000"/>
          </a:xfrm>
        </p:grpSpPr>
        <p:sp>
          <p:nvSpPr>
            <p:cNvPr id="210" name=""/>
            <p:cNvSpPr/>
            <p:nvPr/>
          </p:nvSpPr>
          <p:spPr>
            <a:xfrm>
              <a:off x="400860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67160" y="45925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752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8788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8240" y="56736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0860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8600" y="56736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860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4824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7880" y="49543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8788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752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4824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87880" y="60325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87880" y="56736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752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67160" y="53114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6716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6860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8600" y="45925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08600" y="53114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0860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716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67160" y="56750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860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08600" y="56750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0860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0860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4968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968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752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7520" y="56750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788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2752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0860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4968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710160" y="4078440"/>
            <a:ext cx="360360" cy="25192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155640" y="4078440"/>
            <a:ext cx="360360" cy="2519280"/>
          </a:xfrm>
          <a:custGeom>
            <a:avLst/>
            <a:gdLst>
              <a:gd name="textAreaLeft" fmla="*/ 105480 w 360360"/>
              <a:gd name="textAreaRight" fmla="*/ 36036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5960" y="35002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Tikhonov p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97480" y="181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mag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nalty functions: Image Smoot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24640" y="30369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85800" y="2421000"/>
            <a:ext cx="360360" cy="2160360"/>
            <a:chOff x="685800" y="2421000"/>
            <a:chExt cx="360360" cy="2160360"/>
          </a:xfrm>
        </p:grpSpPr>
        <p:sp>
          <p:nvSpPr>
            <p:cNvPr id="254" name=""/>
            <p:cNvSpPr/>
            <p:nvPr/>
          </p:nvSpPr>
          <p:spPr>
            <a:xfrm>
              <a:off x="687600" y="24210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600" y="2781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760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7600" y="35002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386244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42210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68360" y="2060640"/>
            <a:ext cx="69840" cy="2676600"/>
            <a:chOff x="468360" y="2060640"/>
            <a:chExt cx="69840" cy="2676600"/>
          </a:xfrm>
        </p:grpSpPr>
        <p:sp>
          <p:nvSpPr>
            <p:cNvPr id="261" name=""/>
            <p:cNvSpPr/>
            <p:nvPr/>
          </p:nvSpPr>
          <p:spPr>
            <a:xfrm>
              <a:off x="538200" y="206064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060640"/>
              <a:ext cx="0" cy="267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565440" y="2060640"/>
            <a:ext cx="71640" cy="2736720"/>
            <a:chOff x="3565440" y="2060640"/>
            <a:chExt cx="71640" cy="2736720"/>
          </a:xfrm>
        </p:grpSpPr>
        <p:sp>
          <p:nvSpPr>
            <p:cNvPr id="264" name=""/>
            <p:cNvSpPr/>
            <p:nvPr/>
          </p:nvSpPr>
          <p:spPr>
            <a:xfrm>
              <a:off x="3637080" y="206064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65440" y="2060640"/>
              <a:ext cx="0" cy="27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838160" y="2563920"/>
            <a:ext cx="360360" cy="1728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000" y="2563920"/>
            <a:ext cx="360360" cy="1728720"/>
          </a:xfrm>
          <a:custGeom>
            <a:avLst/>
            <a:gdLst>
              <a:gd name="textAreaLeft" fmla="*/ 105480 w 360360"/>
              <a:gd name="textAreaRight" fmla="*/ 360360 w 360360"/>
              <a:gd name="textAreaTop" fmla="*/ 72000 h 1728720"/>
              <a:gd name="textAreaBottom" fmla="*/ 1656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12680" y="303840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4078440"/>
            <a:ext cx="360360" cy="25192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55640" y="4078440"/>
            <a:ext cx="360360" cy="2519280"/>
          </a:xfrm>
          <a:custGeom>
            <a:avLst/>
            <a:gdLst>
              <a:gd name="textAreaLeft" fmla="*/ 105480 w 360360"/>
              <a:gd name="textAreaRight" fmla="*/ 36036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008600" y="4233960"/>
            <a:ext cx="2160000" cy="2160000"/>
            <a:chOff x="4008600" y="4233960"/>
            <a:chExt cx="2160000" cy="2160000"/>
          </a:xfrm>
        </p:grpSpPr>
        <p:sp>
          <p:nvSpPr>
            <p:cNvPr id="272" name=""/>
            <p:cNvSpPr/>
            <p:nvPr/>
          </p:nvSpPr>
          <p:spPr>
            <a:xfrm>
              <a:off x="400860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7160" y="45925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2752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788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48240" y="56736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0860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08600" y="56736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0860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4824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87880" y="49543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8788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2752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4824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7880" y="60325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87880" y="56736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7520" y="53132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67160" y="53114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6716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860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08600" y="45925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8600" y="53114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0860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6716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67160" y="56750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0860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08600" y="56750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860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9680" y="49528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9680" y="459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7520" y="60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27520" y="56750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8788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2752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860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49680" y="42339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325760" y="4227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70280" y="4581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33880" y="4933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8000" y="5294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8360" y="5654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5400" y="45943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09920" y="4948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73520" y="530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57640" y="5661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8000" y="6021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18440" y="350028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Laplacian p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9748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mpare Penalt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Prior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n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85800" y="3139920"/>
            <a:ext cx="360360" cy="2160360"/>
            <a:chOff x="685800" y="3139920"/>
            <a:chExt cx="360360" cy="2160360"/>
          </a:xfrm>
        </p:grpSpPr>
        <p:sp>
          <p:nvSpPr>
            <p:cNvPr id="323" name=""/>
            <p:cNvSpPr/>
            <p:nvPr/>
          </p:nvSpPr>
          <p:spPr>
            <a:xfrm>
              <a:off x="687600" y="31399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600" y="35002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7600" y="3860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7600" y="42192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5800" y="4581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5800" y="493992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133800" y="4430880"/>
            <a:ext cx="2260440" cy="2166840"/>
            <a:chOff x="3133800" y="4430880"/>
            <a:chExt cx="2260440" cy="2166840"/>
          </a:xfrm>
        </p:grpSpPr>
        <p:grpSp>
          <p:nvGrpSpPr>
            <p:cNvPr id="330" name=""/>
            <p:cNvGrpSpPr/>
            <p:nvPr/>
          </p:nvGrpSpPr>
          <p:grpSpPr>
            <a:xfrm>
              <a:off x="3176640" y="4437000"/>
              <a:ext cx="2160000" cy="2160720"/>
              <a:chOff x="3176640" y="4437000"/>
              <a:chExt cx="2160000" cy="2160720"/>
            </a:xfrm>
          </p:grpSpPr>
          <p:sp>
            <p:nvSpPr>
              <p:cNvPr id="331" name=""/>
              <p:cNvSpPr/>
              <p:nvPr/>
            </p:nvSpPr>
            <p:spPr>
              <a:xfrm>
                <a:off x="3176640" y="443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35200" y="479592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95560" y="515628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55920" y="55166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16280" y="587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76640" y="623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76640" y="587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76640" y="55166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16280" y="55166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5920" y="515772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55920" y="479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5560" y="479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16280" y="623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55920" y="623592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55920" y="587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95560" y="55166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35200" y="55148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35200" y="515628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36640" y="443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176640" y="479592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176640" y="55148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76640" y="515628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535200" y="623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35200" y="58784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176640" y="623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76640" y="58784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76640" y="515628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76640" y="479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17720" y="515628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17720" y="479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95560" y="623736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95560" y="587844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55920" y="443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95560" y="443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76640" y="443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17720" y="4437000"/>
                <a:ext cx="36000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494160" y="44308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38680" y="47847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01920" y="51372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86400" y="5497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6760" y="58579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33800" y="47973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78320" y="5151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1560" y="55040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26040" y="58644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86400" y="62247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861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160" y="421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6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619280" y="3141720"/>
            <a:ext cx="360360" cy="2160360"/>
            <a:chOff x="1619280" y="3141720"/>
            <a:chExt cx="360360" cy="2160360"/>
          </a:xfrm>
        </p:grpSpPr>
        <p:sp>
          <p:nvSpPr>
            <p:cNvPr id="381" name=""/>
            <p:cNvSpPr/>
            <p:nvPr/>
          </p:nvSpPr>
          <p:spPr>
            <a:xfrm>
              <a:off x="1621080" y="3141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21080" y="3502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21080" y="38624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21080" y="422100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19280" y="45831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19280" y="494172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619640" y="386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1964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1964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144960" y="1916280"/>
            <a:ext cx="2160000" cy="2160000"/>
            <a:chOff x="3144960" y="1916280"/>
            <a:chExt cx="2160000" cy="2160000"/>
          </a:xfrm>
        </p:grpSpPr>
        <p:sp>
          <p:nvSpPr>
            <p:cNvPr id="391" name=""/>
            <p:cNvSpPr/>
            <p:nvPr/>
          </p:nvSpPr>
          <p:spPr>
            <a:xfrm>
              <a:off x="3144960" y="19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03520" y="22748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63880" y="26352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24240" y="29955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84600" y="33559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44960" y="37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4960" y="33559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44960" y="29955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84600" y="29955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24240" y="26366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24240" y="227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3880" y="227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84600" y="37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24240" y="37148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24240" y="335592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63880" y="29955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3520" y="29937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03520" y="26352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04960" y="19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44960" y="227484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4960" y="29937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44960" y="26352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3520" y="37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03520" y="33573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4960" y="37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4960" y="33573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4960" y="26352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44960" y="227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6040" y="263520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6040" y="227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63880" y="37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63880" y="335736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4240" y="19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63880" y="19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4960" y="19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86040" y="1916280"/>
              <a:ext cx="360000" cy="36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518520" y="249228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9800" y="26370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)    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18520" y="50133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380000" y="4365720"/>
            <a:ext cx="1152360" cy="93492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25520" y="357336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ore reaso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Image A is more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about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021440" y="2349360"/>
            <a:ext cx="360360" cy="2160360"/>
            <a:chOff x="7021440" y="2349360"/>
            <a:chExt cx="360360" cy="2160360"/>
          </a:xfrm>
        </p:grpSpPr>
        <p:sp>
          <p:nvSpPr>
            <p:cNvPr id="434" name=""/>
            <p:cNvSpPr/>
            <p:nvPr/>
          </p:nvSpPr>
          <p:spPr>
            <a:xfrm>
              <a:off x="7023240" y="234936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23240" y="270972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23240" y="307008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23240" y="3428640"/>
              <a:ext cx="35856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21440" y="379080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1440" y="4149360"/>
              <a:ext cx="358920" cy="360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380360" y="2349360"/>
            <a:ext cx="360360" cy="2160360"/>
            <a:chOff x="7380360" y="2349360"/>
            <a:chExt cx="360360" cy="2160360"/>
          </a:xfrm>
        </p:grpSpPr>
        <p:sp>
          <p:nvSpPr>
            <p:cNvPr id="441" name=""/>
            <p:cNvSpPr/>
            <p:nvPr/>
          </p:nvSpPr>
          <p:spPr>
            <a:xfrm>
              <a:off x="738216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8216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8216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8216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8036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8036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740720" y="2349360"/>
            <a:ext cx="360360" cy="2160360"/>
            <a:chOff x="7740720" y="2349360"/>
            <a:chExt cx="360360" cy="2160360"/>
          </a:xfrm>
        </p:grpSpPr>
        <p:sp>
          <p:nvSpPr>
            <p:cNvPr id="448" name=""/>
            <p:cNvSpPr/>
            <p:nvPr/>
          </p:nvSpPr>
          <p:spPr>
            <a:xfrm>
              <a:off x="774252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4252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4252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4252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4072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4072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661080" y="2349360"/>
            <a:ext cx="360360" cy="2160360"/>
            <a:chOff x="6661080" y="2349360"/>
            <a:chExt cx="360360" cy="2160360"/>
          </a:xfrm>
        </p:grpSpPr>
        <p:sp>
          <p:nvSpPr>
            <p:cNvPr id="455" name=""/>
            <p:cNvSpPr/>
            <p:nvPr/>
          </p:nvSpPr>
          <p:spPr>
            <a:xfrm>
              <a:off x="666288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6288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288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288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6108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6108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300720" y="2349360"/>
            <a:ext cx="360360" cy="2160360"/>
            <a:chOff x="6300720" y="2349360"/>
            <a:chExt cx="360360" cy="2160360"/>
          </a:xfrm>
        </p:grpSpPr>
        <p:sp>
          <p:nvSpPr>
            <p:cNvPr id="462" name=""/>
            <p:cNvSpPr/>
            <p:nvPr/>
          </p:nvSpPr>
          <p:spPr>
            <a:xfrm>
              <a:off x="630252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0252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0252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0252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0072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072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8605800" y="2349360"/>
            <a:ext cx="360360" cy="2160360"/>
            <a:chOff x="8605800" y="2349360"/>
            <a:chExt cx="360360" cy="2160360"/>
          </a:xfrm>
        </p:grpSpPr>
        <p:sp>
          <p:nvSpPr>
            <p:cNvPr id="469" name=""/>
            <p:cNvSpPr/>
            <p:nvPr/>
          </p:nvSpPr>
          <p:spPr>
            <a:xfrm>
              <a:off x="860760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0760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60760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0760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0580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580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810252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508720" y="2349360"/>
            <a:ext cx="360360" cy="2160360"/>
            <a:chOff x="5508720" y="2349360"/>
            <a:chExt cx="360360" cy="2160360"/>
          </a:xfrm>
        </p:grpSpPr>
        <p:sp>
          <p:nvSpPr>
            <p:cNvPr id="477" name=""/>
            <p:cNvSpPr/>
            <p:nvPr/>
          </p:nvSpPr>
          <p:spPr>
            <a:xfrm>
              <a:off x="5510520" y="234936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10520" y="270972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10520" y="307008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10520" y="3428640"/>
              <a:ext cx="35856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08720" y="379080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08720" y="4149360"/>
              <a:ext cx="358920" cy="360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87052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21440" y="4718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8980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7088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53452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31052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230880" y="4718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3708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237440" y="5013000"/>
            <a:ext cx="0" cy="647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00120" y="5564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past   now  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828720" y="2781360"/>
            <a:ext cx="358560" cy="1439280"/>
            <a:chOff x="828720" y="2781360"/>
            <a:chExt cx="358560" cy="1439280"/>
          </a:xfrm>
        </p:grpSpPr>
        <p:sp>
          <p:nvSpPr>
            <p:cNvPr id="494" name=""/>
            <p:cNvSpPr/>
            <p:nvPr/>
          </p:nvSpPr>
          <p:spPr>
            <a:xfrm>
              <a:off x="828720" y="278136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8720" y="314136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8720" y="350172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8720" y="3860640"/>
              <a:ext cx="358560" cy="3600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132000" y="2781360"/>
            <a:ext cx="2160360" cy="1439280"/>
            <a:chOff x="3132000" y="2781360"/>
            <a:chExt cx="2160360" cy="1439280"/>
          </a:xfrm>
        </p:grpSpPr>
        <p:sp>
          <p:nvSpPr>
            <p:cNvPr id="499" name=""/>
            <p:cNvSpPr/>
            <p:nvPr/>
          </p:nvSpPr>
          <p:spPr>
            <a:xfrm flipH="1" rot="16200000">
              <a:off x="313236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rot="16200000">
              <a:off x="349272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rot="16200000">
              <a:off x="385308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rot="16200000">
              <a:off x="421164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rot="16200000">
              <a:off x="457380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rot="16200000">
              <a:off x="4932360" y="278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rot="16200000">
              <a:off x="313236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rot="16200000">
              <a:off x="349272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rot="16200000">
              <a:off x="385308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rot="16200000">
              <a:off x="421164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rot="16200000">
              <a:off x="457380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rot="16200000">
              <a:off x="4932360" y="314028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rot="16200000">
              <a:off x="313236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6200000">
              <a:off x="349272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16200000">
              <a:off x="385308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16200000">
              <a:off x="421164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16200000">
              <a:off x="457380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16200000">
              <a:off x="4932360" y="350064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rot="16200000">
              <a:off x="313236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16200000">
              <a:off x="349272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16200000">
              <a:off x="385308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16200000">
              <a:off x="421164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457380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16200000">
              <a:off x="4932360" y="3861000"/>
              <a:ext cx="358560" cy="360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665080" y="31100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65800" y="2205000"/>
            <a:ext cx="360360" cy="25192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748000" y="2205000"/>
            <a:ext cx="360360" cy="2519280"/>
          </a:xfrm>
          <a:custGeom>
            <a:avLst/>
            <a:gdLst>
              <a:gd name="textAreaLeft" fmla="*/ 105480 w 360360"/>
              <a:gd name="textAreaRight" fmla="*/ 360360 w 360360"/>
              <a:gd name="textAreaTop" fmla="*/ 104760 h 2519280"/>
              <a:gd name="textAreaBottom" fmla="*/ 241452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50600" y="213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Jaco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89080" y="2781360"/>
            <a:ext cx="358560" cy="1439280"/>
            <a:chOff x="1189080" y="2781360"/>
            <a:chExt cx="358560" cy="1439280"/>
          </a:xfrm>
        </p:grpSpPr>
        <p:sp>
          <p:nvSpPr>
            <p:cNvPr id="528" name=""/>
            <p:cNvSpPr/>
            <p:nvPr/>
          </p:nvSpPr>
          <p:spPr>
            <a:xfrm>
              <a:off x="118908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908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908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8908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68360" y="2781360"/>
            <a:ext cx="358560" cy="1439280"/>
            <a:chOff x="468360" y="2781360"/>
            <a:chExt cx="358560" cy="1439280"/>
          </a:xfrm>
        </p:grpSpPr>
        <p:sp>
          <p:nvSpPr>
            <p:cNvPr id="533" name=""/>
            <p:cNvSpPr/>
            <p:nvPr/>
          </p:nvSpPr>
          <p:spPr>
            <a:xfrm>
              <a:off x="46836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836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836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836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549440" y="2781360"/>
            <a:ext cx="358560" cy="1439280"/>
            <a:chOff x="1549440" y="2781360"/>
            <a:chExt cx="358560" cy="1439280"/>
          </a:xfrm>
        </p:grpSpPr>
        <p:sp>
          <p:nvSpPr>
            <p:cNvPr id="538" name=""/>
            <p:cNvSpPr/>
            <p:nvPr/>
          </p:nvSpPr>
          <p:spPr>
            <a:xfrm>
              <a:off x="154944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4944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4944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4944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08000" y="2781360"/>
            <a:ext cx="358560" cy="1439280"/>
            <a:chOff x="108000" y="2781360"/>
            <a:chExt cx="358560" cy="1439280"/>
          </a:xfrm>
        </p:grpSpPr>
        <p:sp>
          <p:nvSpPr>
            <p:cNvPr id="543" name=""/>
            <p:cNvSpPr/>
            <p:nvPr/>
          </p:nvSpPr>
          <p:spPr>
            <a:xfrm>
              <a:off x="108000" y="278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8000" y="314136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8000" y="350172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8000" y="3860640"/>
              <a:ext cx="35856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341440" y="2781360"/>
            <a:ext cx="358920" cy="1439280"/>
            <a:chOff x="2341440" y="2781360"/>
            <a:chExt cx="358920" cy="1439280"/>
          </a:xfrm>
        </p:grpSpPr>
        <p:sp>
          <p:nvSpPr>
            <p:cNvPr id="548" name=""/>
            <p:cNvSpPr/>
            <p:nvPr/>
          </p:nvSpPr>
          <p:spPr>
            <a:xfrm>
              <a:off x="2341440" y="278136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41440" y="314136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41440" y="350172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41440" y="3860640"/>
              <a:ext cx="358920" cy="360000"/>
            </a:xfrm>
            <a:prstGeom prst="rect">
              <a:avLst/>
            </a:prstGeom>
            <a:solidFill>
              <a:srgbClr val="cc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1836720" y="325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87960" y="18194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Imag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1960" y="184464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872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672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7780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9708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17440" y="4443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1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71640" y="4732200"/>
            <a:ext cx="0" cy="648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880" y="5300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0000"/>
                </a:solidFill>
                <a:latin typeface="Arial"/>
              </a:rPr>
              <a:t>past now  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y</cp:lastModifiedBy>
  <dcterms:modified xsi:type="dcterms:W3CDTF">2006-09-01T01:04:03Z</dcterms:modified>
  <cp:revision>34</cp:revision>
  <dc:subject/>
  <dc:title>PowerPoint Presentation</dc:title>
</cp:coreProperties>
</file>