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0EB-E407-4622-8FE7-D3816536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7C0-2A4E-47F8-95CC-B69A0CF1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1E3-1129-4F3A-8D7B-E52814A5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A0B-F230-45E1-9938-4B27FAAA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E9A-48CE-45E1-84E1-CEF9D3DF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C8B-7A28-46DF-ABF9-FA49FD26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D1A-E32F-461C-AF02-4E018EBD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278-54CD-4DDE-A3DC-A3AAC927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152-329B-423B-B5AA-DDFAD054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11D-9A9B-4612-8566-53ADDAC5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BA6-5E79-4296-874B-3FEC00A2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050-B802-451A-8739-878B4423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7FB6-092A-4829-9BF0-93ECE3C04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ción de Eventos Discret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upo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tías Brunstein Mac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384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0"/>
          <a:ext cx="4667400" cy="22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6740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23848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76600" y="0"/>
          <a:ext cx="4667400" cy="2162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6600" y="0"/>
                    <a:ext cx="466740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23344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2133720"/>
          <a:ext cx="4676760" cy="2171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133720"/>
                    <a:ext cx="467676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23344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67240" y="2133720"/>
          <a:ext cx="4676760" cy="2171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67240" y="2133720"/>
                    <a:ext cx="467676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23848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62320" y="4343400"/>
          <a:ext cx="4667040" cy="21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4343400"/>
                    <a:ext cx="466704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6228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04920" y="1523880"/>
          <a:ext cx="8348400" cy="37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48400" cy="37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191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457200"/>
          <a:ext cx="822960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82296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14784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52480" y="3276720"/>
          <a:ext cx="5486400" cy="31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276720"/>
                    <a:ext cx="548640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9072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990720"/>
          <a:ext cx="8610480" cy="47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1048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14784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4784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52480" y="1600200"/>
          <a:ext cx="533412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33412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7632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609480"/>
          <a:ext cx="8381880" cy="20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20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14784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3276720"/>
          <a:ext cx="4495680" cy="28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276720"/>
                    <a:ext cx="449568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14784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657600" y="4114800"/>
          <a:ext cx="5157720" cy="205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4114800"/>
                    <a:ext cx="515772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14784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00400" y="2666880"/>
          <a:ext cx="5310360" cy="95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2666880"/>
                    <a:ext cx="531036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4808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533520"/>
          <a:ext cx="8076960" cy="57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076960" cy="57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7164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152280"/>
          <a:ext cx="7772400" cy="65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280"/>
                    <a:ext cx="777240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9:44:54Z</dcterms:created>
  <dc:creator>Matías Brunstein Macri</dc:creator>
  <dc:description/>
  <dc:language>en-US</dc:language>
  <cp:lastModifiedBy>Matías Brunstein Macri</cp:lastModifiedBy>
  <dcterms:modified xsi:type="dcterms:W3CDTF">2003-10-01T09:58:09Z</dcterms:modified>
  <cp:revision>1</cp:revision>
  <dc:subject/>
  <dc:title>Simulación de Eventos Discretos TP1</dc:title>
</cp:coreProperties>
</file>