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380413" cy="4953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F69-D8AC-40BB-8C77-C9D6CF5E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298080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48B-684A-4C3C-8290-67F6140A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896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F9-E29C-4F4A-86E1-2C9DB79A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732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46080" y="142848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732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46080" y="2980800"/>
            <a:ext cx="22939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528-93AB-45B5-9506-1F42B471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227-0D91-4E83-86FD-D62BFF8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004-C27B-4964-BF99-1C38B697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53C-A5F3-463E-81B5-AB46300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92A-05C3-4930-9283-4F9BC2D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437760"/>
            <a:ext cx="71247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1DD-84AD-4D1D-8F6F-6C98E81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CCC-35FF-4721-8DBB-18D9AF7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8960" y="298080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AFF-868A-4787-A581-FE35D81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8960" y="1428480"/>
            <a:ext cx="347652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2980800"/>
            <a:ext cx="7124760" cy="14173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CF5-DADF-42B4-A6E4-1B8BA71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37760"/>
            <a:ext cx="7124760" cy="82548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428480"/>
            <a:ext cx="7124760" cy="297180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rmAutofit/>
          </a:bodyPr>
          <a:p>
            <a:pPr marL="60480" indent="-60480"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" indent="-5112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200160" indent="-41400">
              <a:spcBef>
                <a:spcPts val="150"/>
              </a:spcBef>
              <a:buClr>
                <a:srgbClr val="000000"/>
              </a:buClr>
              <a:buFont typeface="Times New Roman"/>
              <a:buChar char="•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3" marL="279360" indent="-3960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4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5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6" marL="358920" indent="-39960">
              <a:spcBef>
                <a:spcPts val="150"/>
              </a:spcBef>
              <a:buClr>
                <a:srgbClr val="000000"/>
              </a:buClr>
              <a:buFont typeface="Times New Roman"/>
              <a:buChar char="»"/>
              <a:tabLst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514400"/>
            <a:ext cx="174636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63440" y="4514400"/>
            <a:ext cx="265428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06600" y="4514400"/>
            <a:ext cx="1746360" cy="330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7920" bIns="7920" anchor="t">
            <a:noAutofit/>
          </a:bodyPr>
          <a:lstStyle>
            <a:lvl1pPr indent="0" algn="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fld id="{0BE775E1-605E-464E-B37E-5BF40B3CA01B}" type="slidenum"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03760" y="1371600"/>
            <a:ext cx="68580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8976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976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23080" y="3886200"/>
            <a:ext cx="53316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8956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604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51880" y="1828800"/>
            <a:ext cx="38088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51880" y="3124080"/>
            <a:ext cx="3808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6560" y="19051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12840" y="13716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408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496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55840" y="13716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371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41640" y="1143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9884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17960" y="1523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8840" y="15238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46560" y="2514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46560" y="220968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46560" y="28195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6560" y="3124080"/>
            <a:ext cx="38088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17960" y="35053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56240" y="38862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6960" y="350532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7523280" y="3657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51880" y="251460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1880" y="2209680"/>
            <a:ext cx="38088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51880" y="2819520"/>
            <a:ext cx="38088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17760" y="11430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37280" y="11430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19400" y="9144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9144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3585600" y="24130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167240" y="256536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95720" y="426708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91240" y="41148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ramo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00680" y="426708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ruc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0376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09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8956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2724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46960" y="1143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956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3080" y="1371600"/>
            <a:ext cx="53316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56240" y="1371600"/>
            <a:ext cx="5335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99240" y="1219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94280" y="38095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336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8280" y="1523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4760" y="838080"/>
            <a:ext cx="1066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796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81080"/>
            <a:ext cx="1066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1067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amino: 3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52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7T03:13:35Z</dcterms:created>
  <dc:creator>Jorge Grande</dc:creator>
  <dc:description/>
  <dc:language>en-US</dc:language>
  <cp:lastModifiedBy>Jorge Grande</cp:lastModifiedBy>
  <cp:lastPrinted>2000-02-18T16:06:50Z</cp:lastPrinted>
  <dcterms:modified xsi:type="dcterms:W3CDTF">2000-04-04T23:05:06Z</dcterms:modified>
  <cp:revision>60</cp:revision>
  <dc:subject/>
  <dc:title>Sin título de diapositiva</dc:title>
</cp:coreProperties>
</file>