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777-C54C-47D8-8FB1-8460082A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056-FAAF-4BD9-9B51-8536FB20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16A-0580-455F-A671-4CC4DDD6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58C-E1A6-49C5-9347-48257889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1B7-7361-4B65-AC95-C184FFDC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D5C-8438-4D40-BBFD-2339B3B8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F37-5088-47DF-9351-76F9866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EF2-C778-45DB-9246-541D0D9E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64C-5B5D-4344-8351-191B9537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36E-B91D-48AA-81DD-718E651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564-BE10-4DEF-A1B1-EA33841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3D2-5186-4E1C-ABED-73FEF378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71F7-8DF0-4DD5-B913-B5709743C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10666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xpendedora de bebidas cal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0" y="2590920"/>
            <a:ext cx="47624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068560" y="304920"/>
          <a:ext cx="4484520" cy="55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8560" y="304920"/>
                    <a:ext cx="4484520" cy="55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447920" y="5410080"/>
          <a:ext cx="5610240" cy="116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5410080"/>
                    <a:ext cx="56102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097000" y="533520"/>
          <a:ext cx="4608720" cy="61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533520"/>
                    <a:ext cx="4608720" cy="61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19280" y="1397160"/>
          <a:ext cx="410544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1397160"/>
                    <a:ext cx="410544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097000" y="533520"/>
          <a:ext cx="4608720" cy="61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533520"/>
                    <a:ext cx="4608720" cy="61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914400"/>
          <a:ext cx="739152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3915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47920" y="3924360"/>
          <a:ext cx="5610240" cy="2095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924360"/>
                    <a:ext cx="561024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1295280"/>
          <a:ext cx="7086600" cy="24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086600" cy="24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762200" y="4505400"/>
          <a:ext cx="5610240" cy="116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2200" y="4505400"/>
                    <a:ext cx="56102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62120" y="1066680"/>
          <a:ext cx="7848360" cy="27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848360" cy="27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762200" y="4476600"/>
          <a:ext cx="5610240" cy="933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2200" y="4476600"/>
                    <a:ext cx="56102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1600200"/>
          <a:ext cx="7620120" cy="26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762012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00200" y="4705200"/>
          <a:ext cx="5610240" cy="933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705200"/>
                    <a:ext cx="56102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514600" y="1066680"/>
          <a:ext cx="4113360" cy="41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411336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762200" y="4657680"/>
          <a:ext cx="5610240" cy="933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2200" y="4657680"/>
                    <a:ext cx="56102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-533520"/>
          <a:ext cx="50022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-533520"/>
                    <a:ext cx="50022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752480" y="5105520"/>
          <a:ext cx="5610240" cy="1628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105520"/>
                    <a:ext cx="56102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23:11:26Z</dcterms:created>
  <dc:creator>Pisani</dc:creator>
  <dc:description/>
  <dc:language>en-US</dc:language>
  <cp:lastModifiedBy>User</cp:lastModifiedBy>
  <dcterms:modified xsi:type="dcterms:W3CDTF">2002-10-02T06:18:05Z</dcterms:modified>
  <cp:revision>13</cp:revision>
  <dc:subject/>
  <dc:title>Sin título de diapositiva</dc:title>
</cp:coreProperties>
</file>