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380413" cy="4953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497-0732-4B3C-971A-0CFFE9F4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712476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2980800"/>
            <a:ext cx="712476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3AD-199C-4EEF-97AA-3398923F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8960" y="142848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298080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8960" y="298080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A59-8C68-49B2-AE9B-C5E27097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22939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7320" y="1428480"/>
            <a:ext cx="22939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46080" y="1428480"/>
            <a:ext cx="22939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2980800"/>
            <a:ext cx="22939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7320" y="2980800"/>
            <a:ext cx="22939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46080" y="2980800"/>
            <a:ext cx="22939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57E-E14F-4540-98E1-A154846E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428480"/>
            <a:ext cx="712476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306-04E7-4805-8BFF-78052437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7124760" cy="297180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B36-72DB-4B4A-B957-8FD6E888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3476520" cy="297180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8960" y="1428480"/>
            <a:ext cx="3476520" cy="297180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A6F-5111-47E3-B334-B4527FB0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E02-0FD8-45B9-84E5-574A3A54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437760"/>
            <a:ext cx="71247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E49-EB1E-449B-BA89-2671BE48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8960" y="1428480"/>
            <a:ext cx="3476520" cy="297180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298080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2D0-66B0-4BF8-8600-53E46F8F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3476520" cy="297180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8960" y="142848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8960" y="298080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B38-822E-4558-9108-8B77BAD4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8960" y="142848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2980800"/>
            <a:ext cx="712476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E09-15ED-4229-B03F-B61011AC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428480"/>
            <a:ext cx="7124760" cy="297180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marL="60480" indent="-60480">
              <a:spcBef>
                <a:spcPts val="150"/>
              </a:spcBef>
              <a:buClr>
                <a:srgbClr val="000000"/>
              </a:buClr>
              <a:buFont typeface="Times New Roman"/>
              <a:buChar char="•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0320" indent="-5112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2" marL="200160" indent="-41400">
              <a:spcBef>
                <a:spcPts val="150"/>
              </a:spcBef>
              <a:buClr>
                <a:srgbClr val="000000"/>
              </a:buClr>
              <a:buFont typeface="Times New Roman"/>
              <a:buChar char="•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3" marL="279360" indent="-3960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4" marL="358920" indent="-39960">
              <a:spcBef>
                <a:spcPts val="150"/>
              </a:spcBef>
              <a:buClr>
                <a:srgbClr val="000000"/>
              </a:buClr>
              <a:buFont typeface="Times New Roman"/>
              <a:buChar char="»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5" marL="358920" indent="-39960">
              <a:spcBef>
                <a:spcPts val="150"/>
              </a:spcBef>
              <a:buClr>
                <a:srgbClr val="000000"/>
              </a:buClr>
              <a:buFont typeface="Times New Roman"/>
              <a:buChar char="»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6" marL="358920" indent="-39960">
              <a:spcBef>
                <a:spcPts val="150"/>
              </a:spcBef>
              <a:buClr>
                <a:srgbClr val="000000"/>
              </a:buClr>
              <a:buFont typeface="Times New Roman"/>
              <a:buChar char="»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514400"/>
            <a:ext cx="1746360" cy="3301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Autofit/>
          </a:bodyPr>
          <a:lstStyle>
            <a:lvl1pPr indent="0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  <a:defRPr b="0" lang="en-US" sz="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63440" y="4514400"/>
            <a:ext cx="2654280" cy="3301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Autofit/>
          </a:bodyPr>
          <a:lstStyle>
            <a:lvl1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  <a:defRPr b="0" lang="en-US" sz="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06600" y="4514400"/>
            <a:ext cx="1746360" cy="3301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Autofit/>
          </a:bodyPr>
          <a:lstStyle>
            <a:lvl1pPr indent="0" algn="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  <a:defRPr b="0" lang="en-US" sz="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fld id="{46A2A4D2-E774-48CE-93B7-F0DA8EE5C6A8}" type="slidenum">
              <a:rPr b="0" lang="en-US" sz="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03760" y="1371600"/>
            <a:ext cx="68580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989760" y="13716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89760" y="38862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23080" y="3886200"/>
            <a:ext cx="53316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89560" y="38862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6040" y="38862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51880" y="1828800"/>
            <a:ext cx="38088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51880" y="3124080"/>
            <a:ext cx="3808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46560" y="1905120"/>
            <a:ext cx="380880" cy="304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12840" y="1371600"/>
            <a:ext cx="38124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4080" y="137160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74960" y="137160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55840" y="1371600"/>
            <a:ext cx="38124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7080" y="137160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41640" y="114300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9884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017960" y="15238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8840" y="15238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46560" y="251460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46560" y="220968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46560" y="2819520"/>
            <a:ext cx="380880" cy="304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46560" y="3124080"/>
            <a:ext cx="3808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17960" y="350532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56240" y="38862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6960" y="350532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7523280" y="36576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51880" y="251460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51880" y="220968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51880" y="2819520"/>
            <a:ext cx="380880" cy="304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17760" y="114300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ram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37280" y="114300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ram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19400" y="91440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ruc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24720" y="91440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ruc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3585600" y="241308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ram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7167240" y="256536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ramo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95720" y="426708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ruc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91240" y="411480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ramo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00680" y="426708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ruc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044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0376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090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8956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2724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46960" y="114300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9560" y="13716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23080" y="1371600"/>
            <a:ext cx="53316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56240" y="13716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599240" y="1219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94280" y="380952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03360" y="1447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08280" y="1523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4760" y="838080"/>
            <a:ext cx="10666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mino: 3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5796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447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1981080"/>
            <a:ext cx="10666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mino: 3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838080"/>
            <a:ext cx="1067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mino: 3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352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7T03:13:35Z</dcterms:created>
  <dc:creator>Jorge Grande</dc:creator>
  <dc:description/>
  <dc:language>en-US</dc:language>
  <cp:lastModifiedBy>Jorge Grande</cp:lastModifiedBy>
  <cp:lastPrinted>2000-02-18T16:06:50Z</cp:lastPrinted>
  <dcterms:modified xsi:type="dcterms:W3CDTF">2000-04-04T23:05:06Z</dcterms:modified>
  <cp:revision>60</cp:revision>
  <dc:subject/>
  <dc:title>Sin título de diapositiva</dc:title>
</cp:coreProperties>
</file>