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5A3-DBD0-481F-B5CC-8489E4D5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881-17FF-45AE-A090-4298576A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02C-07AB-42DC-BC71-D3AC9C96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952-83CB-4C58-9124-E83F6790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B277-92B2-4E2D-B832-7A4FF90F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F2EB-68B4-4596-9C1F-ED0B8945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E915-BFCC-4240-95F9-4104C21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EA2C-D884-4CE6-B49A-B7443CDB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0CD-9EC2-421E-BA9E-F2F5858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087A-B3D7-4B2F-8511-AC58647B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7CC2-A3BA-4FCA-8D18-3113F18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6FB-E4D7-4AE9-98E9-28F6D8F0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BE8C-2790-4989-AB6D-4727E6B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5A13-FF08-4896-BD68-662481A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61E-9D98-4467-81BC-CFD8C030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8EA-A0F7-4CDD-A7B6-81895A1C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30A-2B14-480A-970E-42F434AE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B1B-5001-4645-B830-0EAD6019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463-2AFC-4D93-B051-CA4828A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CED-4E84-4A04-82B8-48D98EE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62E-86AD-4CEA-8B2C-5F21C9AD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719-B6A7-45EB-855A-DB596D2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D15-95CC-4858-83C3-4218F17C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B6B-6654-49E7-8FDC-40C2EC1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290-41DB-4F24-B58A-20D70DE63C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E1A0-FB89-43E0-BBC8-09989B499C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e574e"/>
                </a:solidFill>
                <a:latin typeface="Arial Black"/>
              </a:rPr>
              <a:t>Simulación de Eventos Discretos - TP Nº2</a:t>
            </a:r>
            <a:br>
              <a:rPr sz="2400"/>
            </a:b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eproducción Bacterial (Vibrio Parahaemolyti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86040"/>
            <a:ext cx="8305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ahoma"/>
              </a:rPr>
              <a:t>Saprófita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s: No son riesgosas para la salud, alteran las características organolépticas ( color, sabor, textura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ahoma"/>
              </a:rPr>
              <a:t>Patógenas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: Peligrosas para la salud. Generalmente </a:t>
            </a:r>
            <a:r>
              <a:rPr b="1" lang="es-AR" sz="1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alteran el alimento y el consumidor no advierte el peli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ac2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1247760" cy="8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533520" y="3809880"/>
          <a:ext cx="7619760" cy="287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9880"/>
                    <a:ext cx="76197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e574e"/>
                </a:solidFill>
                <a:latin typeface="Arial Black"/>
              </a:rPr>
              <a:t>Simulación de Eventos Discretos - TP Nº2</a:t>
            </a:r>
            <a:br>
              <a:rPr sz="2400"/>
            </a:b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eproducción Bacterial (Vibrio Parahaemolyticu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Condiciones para el desarrollo en alimen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limento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Nutrientes (Hidratos de carbono, proteínas, grasas vitaminas, miner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gua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cantidad de agua que presenta el alimen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cidez (pH)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grado de acidez o alcalinidad del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Oxígeno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aeróbicos, anaerobios, anaerobios faculta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Temperatura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adecu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Tiempo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fisión binari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bac1" descr=""/>
          <p:cNvPicPr/>
          <p:nvPr/>
        </p:nvPicPr>
        <p:blipFill>
          <a:blip r:embed="rId1"/>
          <a:stretch/>
        </p:blipFill>
        <p:spPr>
          <a:xfrm>
            <a:off x="7696080" y="4952880"/>
            <a:ext cx="9907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e574e"/>
                </a:solidFill>
                <a:latin typeface="Arial Black"/>
              </a:rPr>
              <a:t>Simulación de Eventos Discretos - TP Nº2</a:t>
            </a:r>
            <a:br>
              <a:rPr sz="2400"/>
            </a:b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eproducción Bacterial (Vibrio Parahaemolyti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886040"/>
            <a:ext cx="8305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Condiciones para el Vibrio Parahaemolity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limento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pesca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gua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entre 1 y 0,85 A</a:t>
            </a:r>
            <a:r>
              <a:rPr b="0" lang="es-AR" sz="20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cidez (pH)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7.5pH  a 8.5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Oxígeno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anaerobio facult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Temperatura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&lt; 8º C , No se desarro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optima entre 15º C y 43º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&gt; 60º C, durante 10’ la bacteria mu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Tiempo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: fisión binaria. 20-3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ac2" descr=""/>
          <p:cNvPicPr/>
          <p:nvPr/>
        </p:nvPicPr>
        <p:blipFill>
          <a:blip r:embed="rId1"/>
          <a:stretch/>
        </p:blipFill>
        <p:spPr>
          <a:xfrm>
            <a:off x="7315200" y="4648320"/>
            <a:ext cx="1247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e574e"/>
                </a:solidFill>
                <a:latin typeface="Arial Black"/>
              </a:rPr>
              <a:t>Simulación de Eventos Discretos - TP Nº2</a:t>
            </a:r>
            <a:br>
              <a:rPr sz="2400"/>
            </a:b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eproducción Bacterial (Vibrio Parahaemolyti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752480"/>
            <a:ext cx="3581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Esquema Acop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[contaminac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type :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dim : (10, 10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defaultDelayTime :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border : nowrapp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zone:Temperaturas{(0,0,1)..(9,9,1)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in : inpu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localtransition : Evolu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0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1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2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3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4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5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6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7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8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link : inputFrio  in@contaminacion(9,0,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51240" y="2270160"/>
            <a:ext cx="3292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cter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2587680"/>
            <a:ext cx="9284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generador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5360" y="2403360"/>
            <a:ext cx="1281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ontamin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48160" y="2644920"/>
            <a:ext cx="457200" cy="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48160" y="2735280"/>
            <a:ext cx="457200" cy="92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348160" y="273492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48160" y="246060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657600"/>
            <a:ext cx="533412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eighbors : contaminacion(-1,-1,0) contaminacion(-1,0,0) contaminacion(-1,1,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eighbors : contaminacion(0,-1,0)  contaminacion(0,0,0)  contaminacion(0,1,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eighbors : contaminacion(1,-1,0)  contaminacion(1,0,0)  contaminacion(1,1,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eighbors : contaminacion(-1,-1,1) contaminacion(-1,0,1) contaminacion(-1,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eighbors : contaminacion(0,-1,1)  contaminacion(0,0,1)  contaminacion(0,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eighbors : contaminacion(1,-1,1)  contaminacion(1,0,1)  contaminacion(1,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0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1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2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3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4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5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6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7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8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portInTransition : in@contaminacion(9,0,1)  set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ac1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e574e"/>
                </a:solidFill>
                <a:latin typeface="Arial Black"/>
              </a:rPr>
              <a:t>Simulación de Eventos Discretos - TP Nº2</a:t>
            </a:r>
            <a:br>
              <a:rPr sz="2400"/>
            </a:b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eproducción Bacterial (Vibrio Parahaemolyti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886040"/>
            <a:ext cx="2743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657600"/>
            <a:ext cx="533412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Reg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[Temperaturas] Promedio de temp. del vecind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[Evoluc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ule : </a:t>
            </a: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0 10000 { cellpos(2) = 0 and (0,0,1) &gt; 60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ule : </a:t>
            </a: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{ round(if((0,0,0) * 2 &gt; 99,0.7,1) * (0,0,0) *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-1,-1,1) != ? and (-1,-1,1) &gt; 8 and (-1,-1,1) &lt; 60 and round((-1,-1,0) * 2) &gt; 99, round((-1,-1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-1, 0,1) != ? and (-1, 0,1) &gt; 8 and (-1, 0,1) &lt; 60 and round((-1, 0,0) * 2) &gt; 99, round((-1, 0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-1, 1,1) != ? and (-1, 1,1) &gt; 8 and (-1, 1,1) &lt; 60 and round((-1, 1,0) * 2) &gt; 99, round((-1, 1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 0,-1,1) != ? and ( 0,-1,1) &gt; 8 and ( 0,-1,1) &lt; 60 and round(( 0,-1,0) * 2) &gt; 99, round(( 0,-1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 0, 1,1) != ? and ( 0, 1,1) &gt; 8 and ( 0, 1,1) &lt; 60 and round(( 0, 1,0) * 2) &gt; 99, round(( 0, 1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 1,-1,1) != ? and ( 1,-1,1) &gt; 8 and ( 1,-1,1) &lt; 60 and round(( 1,-1,0) * 2) &gt; 99, round(( 1,-1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 1, 0,1) != ? and ( 1, 0,1) &gt; 8 and ( 1, 0,1) &lt; 60 and round(( 1, 0,0) * 2) &gt; 99, round(( 1, 0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+ if( ( 1, 1,1) != ? and ( 1, 1,1) &gt; 8 and ( 1, 1,1) &lt; 60 and round(( 1, 1,0) * 2) &gt; 99, round(( 1, 1,0) * 2 * 0.1),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} 30000 { cellpos(2) = 0 and (0,0,1) &gt; 8 and statecount(?) = 5 * 2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ule : {(0,0,0)} 10000 { cellpos(2) = 0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[setFrio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rule : { uniform(-10,0)} 500 { t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17524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ac2" descr=""/>
          <p:cNvPicPr/>
          <p:nvPr/>
        </p:nvPicPr>
        <p:blipFill>
          <a:blip r:embed="rId1"/>
          <a:stretch/>
        </p:blipFill>
        <p:spPr>
          <a:xfrm>
            <a:off x="7543800" y="5334120"/>
            <a:ext cx="1247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e574e"/>
                </a:solidFill>
                <a:latin typeface="Arial Black"/>
              </a:rPr>
              <a:t>Simulación de Eventos Discretos - TP Nº2</a:t>
            </a:r>
            <a:br>
              <a:rPr sz="2400"/>
            </a:b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eproducción Bacterial (Vibrio Parahaemolyti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17128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712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362320" y="2133720"/>
          <a:ext cx="17190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133720"/>
                    <a:ext cx="1719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480" y="182880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00:00:00:0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248520" y="2133720"/>
          <a:ext cx="17190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133720"/>
                    <a:ext cx="1719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133720"/>
          <a:ext cx="172224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133720"/>
                    <a:ext cx="1722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343400" y="182880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00:00:30: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41911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2:40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4495680"/>
          <a:ext cx="173016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495680"/>
                    <a:ext cx="1730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362320" y="4495680"/>
          <a:ext cx="1717560" cy="182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4495680"/>
                    <a:ext cx="1717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419720" y="4495680"/>
          <a:ext cx="172872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495680"/>
                    <a:ext cx="1728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248520" y="4495680"/>
          <a:ext cx="17208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4495680"/>
                    <a:ext cx="1720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419720" y="41911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00:03:59: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8:08:39Z</dcterms:created>
  <dc:creator>GHERRERO</dc:creator>
  <dc:description/>
  <dc:language>en-US</dc:language>
  <cp:lastModifiedBy>GHERRERO</cp:lastModifiedBy>
  <dcterms:modified xsi:type="dcterms:W3CDTF">2002-06-05T19:23:01Z</dcterms:modified>
  <cp:revision>4</cp:revision>
  <dc:subject/>
  <dc:title>Sin título de diapositiva</dc:title>
</cp:coreProperties>
</file>