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DF0-4FB6-4BAF-B120-E8CBE6AA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839-2574-4FDD-95A4-71B8718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813-431F-42C9-BA89-C576A615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E60-CAAA-427E-9729-C8F49349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A3D-2370-4E9A-9981-3F5282B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E32-AA0E-45BC-94F6-56017D4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4F6-C1B8-4432-81E6-504DD7AF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EB-DD5B-4810-A139-D74DFAA6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026-9828-4AA3-BCEB-C6500A8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B13-4EF3-453A-9797-C113066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6C0-2EC5-43AD-A4DC-AC0F61C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86B-E302-4530-A379-8B3C8A7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FAB-829C-43EB-90B5-B8F88F03A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838080"/>
          <a:ext cx="285732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285732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838080"/>
          <a:ext cx="2857320" cy="303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838080"/>
                    <a:ext cx="28573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00:00:00:0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10000" y="4648320"/>
          <a:ext cx="2867040" cy="30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4648320"/>
                    <a:ext cx="28670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3520" y="4648320"/>
          <a:ext cx="2871720" cy="30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648320"/>
                    <a:ext cx="28717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42973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mpo de simulació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0:00:30: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1:30:0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6782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:02:00: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838080"/>
          <a:ext cx="2798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838080"/>
                    <a:ext cx="2798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05320" y="838080"/>
          <a:ext cx="2801880" cy="29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838080"/>
                    <a:ext cx="280188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3520" y="4952880"/>
          <a:ext cx="278928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952880"/>
                    <a:ext cx="2789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05320" y="4952880"/>
          <a:ext cx="281772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52880"/>
                    <a:ext cx="2817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00:02:11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6782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2:17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05320" y="838080"/>
          <a:ext cx="28177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2817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510000" y="4952880"/>
          <a:ext cx="28116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0000" y="4952880"/>
                    <a:ext cx="2811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50800" y="838080"/>
          <a:ext cx="280188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00" y="838080"/>
                    <a:ext cx="28018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38200" y="4952880"/>
          <a:ext cx="280656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200" y="4952880"/>
                    <a:ext cx="2806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2:30: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6782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2:40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2880" y="838080"/>
          <a:ext cx="2789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838080"/>
                    <a:ext cx="2789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952880"/>
          <a:ext cx="281304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952880"/>
                    <a:ext cx="2813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37000" y="838080"/>
          <a:ext cx="278748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7000" y="838080"/>
                    <a:ext cx="2787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533760" y="4952880"/>
          <a:ext cx="279072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33760" y="4952880"/>
                    <a:ext cx="2790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:03:00: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6782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3:08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838080"/>
          <a:ext cx="27954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2795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33520" y="4952880"/>
          <a:ext cx="27828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952880"/>
                    <a:ext cx="2782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581280" y="838080"/>
          <a:ext cx="279396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838080"/>
                    <a:ext cx="2793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505320" y="4952880"/>
          <a:ext cx="278748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52880"/>
                    <a:ext cx="2787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3:30:0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6782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3:57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30520" y="838080"/>
          <a:ext cx="27939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0520" y="838080"/>
                    <a:ext cx="2793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505320" y="4952880"/>
          <a:ext cx="28368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952880"/>
                    <a:ext cx="2836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520" y="838080"/>
          <a:ext cx="280188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838080"/>
                    <a:ext cx="28018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3520" y="4952880"/>
          <a:ext cx="281304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952880"/>
                    <a:ext cx="2813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5335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0:03:59:500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05320" y="838080"/>
          <a:ext cx="27939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2793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520" y="4952880"/>
          <a:ext cx="28080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952880"/>
                    <a:ext cx="2808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05320" y="4952880"/>
          <a:ext cx="27954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952880"/>
                    <a:ext cx="2795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3520" y="46483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mpo de simulació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:03:59: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833400"/>
          <a:ext cx="2813040" cy="29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833400"/>
                    <a:ext cx="281304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5:44:48Z</dcterms:created>
  <dc:creator>GHERRERO</dc:creator>
  <dc:description/>
  <dc:language>en-US</dc:language>
  <cp:lastModifiedBy>GHERRERO</cp:lastModifiedBy>
  <dcterms:modified xsi:type="dcterms:W3CDTF">2002-06-05T19:23:12Z</dcterms:modified>
  <cp:revision>8</cp:revision>
  <dc:subject/>
  <dc:title>Sin título de diapositiva</dc:title>
</cp:coreProperties>
</file>