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895-935D-4517-A726-6C56C0AD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313-E3FE-44EC-96AC-A29D313D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4DC-E3D1-474D-BE33-92F61581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7FC-C7E8-49B9-82F8-F05FB87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EDF-355D-40B1-ABFA-1D921D1E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449A-8E2A-491C-BA89-33B72375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F4B4-37C2-4D82-891A-B86BF8F6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3528-2270-443B-A248-1BF884F0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1A3D-07B1-4AB3-A102-D91D846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33F-062C-492F-8FC1-F2443548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583B-7322-46B0-817E-E02F979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4ED-868A-4884-9F09-75AE0B9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9504-CE77-49CE-B49D-A4BC1E2E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C155-D036-4354-A5E0-189E819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8E9E-529B-42CA-8311-DC895D2D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740-FE2C-4F7F-A400-7D5D968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5B7D-7691-4ADB-86CD-494EAA93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804-530C-4150-8382-2888B1C8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D57-147A-4807-B233-0EDFCB9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CF8-D07C-4157-8966-B8497CDB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B65-F672-4282-918D-261E8E4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0D8-8D63-4368-BE2F-8400CF5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C31-73B1-4D87-B4A7-E666CEF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DDE-B406-4A96-8360-2621100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53B-8C0A-4F89-8F0A-0D9525A1F6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E9A-48B0-49D6-A835-ED3A35FEA4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Tesis de Licenciatu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09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ClashRT: Una herramienta para construir sistemas SCADA, emulando planificación en Tiempo 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blo Es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oftware de base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mínimos de un Sistema Operativo para Tiempo Real (RTOS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Microker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ificación por prioridades y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tención de interrupciones dentro de un límite de tiempo especifica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 switches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forma muy rápi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e de Reloj de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oftware de base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rvicios provistos por los RTOS Multitare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ificación de tareas de acuerdo a su algoritmo de planificación y al nivel de prioridad de las mism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imiento de los requerimientos de tiempo de las tar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Manejar las interrupciones del sistema y tratar de minimizar el tiempo de atención de las mismas, para poder predecir su impacto sobre las tareas de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s de comunicación y sincronización entre tar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oftware de base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tare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clave en los R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teoría de planificación (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scheduling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) para Tiempo Real se relaciona con el hecho de hacer cumplir las restricciones de tiempo de las tar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ado un conjunto de tareas, el objetivo 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Encontrar planes óptimos estáticos que minimicen el tiempo de respues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Poder predecir la ejecución de las mis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as estas actividades son realizadas por el planficador (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) y despachador (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dispatcher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) de tare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oftware de base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anismos de comunicación entre tare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ia compartida. Es preferible para tareas que ejecutan en una misma máqui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ajes de mensajes, con sus dos tipos de comu-nicación: sincrónica y asincrónica. Es el mecanismo utilizado para la comunicación a través de un 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anismos de sincronización entre tare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ciones críticas y lo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ulación cruzada para el control entre tar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familia de Sistemas Operativos de Propósito General (GPOS), basados en una arquitectura de 32-b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á compuesta por varios sistemas Window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2000 / WindowsNT (tecnologías más poderos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98 / Windows95 (con fines hogareño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n integración de Win32s (obsolet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umple con varios de los requerimientos de los RT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kernel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2000/N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area con servicios de comunicación y sincroniz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ificación por prioridades y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ención de interrupciones por prioridades y en form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e de Reloj de Tiempo Real (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Win32 API es la interface de acceso común para todos los O/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uesta por una colección de funciones, estructuras de datos, macros y otros elementos de programació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s tecnologías más poderosas poseen capacidades específic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Reloj del Sistema tiene la siguiente resolució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2000 / WindowsNT: 10 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98 / Windows95: 55 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 funciones específicas, se puede obtener mayor precisión del tiempo, en el orden de 0.8 microsegund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oda aplicación de Win32 consta de uno o más proces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proceso está compuesto por uno o más threads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Multithread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thread es la unidad básica de ejecución que puede ser planificada por el O/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thread tiene asignada un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eduling pri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eduler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mantiene una cola de threads por cada nivel de prio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algoritmo que utiliza el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eduler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s: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ghest priority ready thread first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Para el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ralevel scheduling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tiliza Round-Robin o FIFO (sólo en Windows20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ar una herramienta para construir sistemas SCA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mular la planificación en Tiempo R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r en Win32, con sus facilidades para Tiempo Re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eduling priority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stá compuesta p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e priority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stá compuesta p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lass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proc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level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thread, relativo a l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lass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proc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proceso pertenece alguna de las siguientes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iority classes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IDLE_PRIORITY_CL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BELOW_NORMAL_PRIORITY_CLASS 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(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RMAL_PRIORITY_CL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BOVE_NORMAL_PRIORITY_CLASS 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(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HIGH_PRIORITY_CL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ALTIME_PRIORITY_CL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(*)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Sólo disponible en Windows2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da proceso pertenece alguna de las siguientes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iority classes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ID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LOW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BELOW_NORM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NORM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ABOVE_NORM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HIGH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HREAD_PRIORITY_TIME_CRI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 priority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icialmente es igual a 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e pri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 priority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s aumentad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boost)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 disminuida de acuerdo a técnicas del O/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namic priority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unca podrá ser menor que 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e prio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Win32 para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a con 32 niveles de prioridades, donde 0 es la más baja y 31 la más al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16 niveles más altos corresponden a la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iority class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ALTIME_PRIORITY_CLASS. Los threads del O/S se ejecutan dentro de esta cl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odos los threads se ejecutan en el nivel de prioridad de interrupción más bajo: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Planificación en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algoritmos de planificación de los RTOS, trabajan con diferentes restricciones de tiemp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mpo de lleg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mpo de lis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mpo de ejecu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mpo de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d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de los modelos consideran dos tipos de tareas a planifica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eas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ód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eas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eriód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Planificación en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teoría de planificación trata con dos clases de algoritm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át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nám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os algoritmos pueden usar dos tipos de prioridade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j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Planificación en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algoritmo de planificación produce un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lan de ejecución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, el cual especifica un orden para ejecutar las tarea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gunos ejempl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te Monotonic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stático, con prioridades fijas y desalojo del procesad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st Deadline First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stático o dinámico, con prioridades fijas o variables y desalojo del procesad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t Slack First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inámico, con prioridades fijas y desalojo del procesad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Emulación de la Planificación en T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istirán diversas aplicaciones en donde sólo los RTOS cumplirán con todos los requerimien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actores que justifican la emulación de los algoritmos de planificación en TR en un GP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: diferentes tareas en un solo O/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rrollo: herramientas de desarrollo disponi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dad: código escrito en lenguajes open y stand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o: implementación total en un solo O/S, reduce significativamente el cos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Emulación de la Planificación en T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utilizan diferentes técnicas de emulació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ción manual de prioridades, de acuerdo a un algoritmo de planificación en TR o a resultados obtenidos luego de pruebas exhaustiv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 Client/Server si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 Client/Server múltiple, conjuntamente con la asignación de prioridades de acuerdo a un algoritmo de planificación en T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escribir un paquete de threads sobre el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 GP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roducción a los Sistemas de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ripción de los Sistemas S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álisis del Software de Base para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mulación de la Planificación en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 la herramien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ementación en Win3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stración de un SCADA de ejemp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sts de los algoritmos de emulación en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Emulación de la Planificación en T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trabaja con un modelo base y sus respectivos parámetr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quitectura monoprocesad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/S es un GP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/S trabaja con prioridades, con multilevel y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/S no estará dedicado a las tareas de Tiemp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tareas de Tiempo Real son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ód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</a:rPr>
              <a:t>meta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de cada tarea de Tiempo Real es igual a su período de ejecu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lo posible, el GPOS no utilizará la técnica de ajuste dinámico de prior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de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racterísticas principa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sea obtener respuestas correctas en un tiempo máximo determinado, llamado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 </a:t>
            </a:r>
            <a:r>
              <a:rPr b="1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d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orden de ejecución de las tareas depende de la ocurrencia de eventos que suceden en el mundo re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es tipos de funciones bien diferenciad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e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de Tiempo Re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lasificación basada en restricciones de tiemp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n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gunas aplicacion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zación de fábricas y procesos industri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de tráfico vehicular, aéreo y satel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es de fibra óptica y canales de alta velocidad para transmitir datos, audio y vide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eo de pacientes y alta tecnología para la medici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de Supervisión de Proces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racterísticas principa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s que están conectados al mundo exterior, a través de dispositivos de E/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tienen una Imagen del entorno, la cual es actualizada a intervalos regula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 conjunto de programas para monitorear, coordinar y controlar los diferentes componentes del sist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án divididos en diferentes tar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general, son Sistemas de Tiempo Real blandos o fir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son llamados sistemas SCADA (Supervisory Control And Data Acquis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SCA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nciones principa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eo y control del sist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ción general del sistema: control de tareas, prioridades, excepcion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ción de da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iones de registro de las operac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en reportes con diferentes niveles de detalle y de información de acuerdo al perfil del usuari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SCA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quitectur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magen del mundo exterior está compuesta por </a:t>
            </a:r>
            <a:r>
              <a:rPr b="0" i="1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tos de supervisió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os cuales conforman un Base de Da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ase de Datos puede estar formada por miles de puntos y es accedida por las tareas del sistema SCADA y por las tareas de otros módul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alidad de un sistema SCADA se puede dividir en tres niveles de servici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L (Basic Service Leve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L (Particular Service Leve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L  (Interface Service Leve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bcbcb"/>
                </a:solidFill>
                <a:latin typeface="Times New Roman"/>
              </a:rPr>
              <a:t>Sistemas SCAD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tegoría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sistemas SCADA se pueden dividir en 5 categorías, de acuerdo a su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u facilidad de uso, flexibilidad del software y su interface con el programador y usuari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específ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ilidades agregad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ación Virt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z con un lengua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digo fuen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6T08:58:07Z</dcterms:created>
  <dc:creator>Win2K</dc:creator>
  <dc:description/>
  <dc:language>en-US</dc:language>
  <cp:lastModifiedBy>pesper</cp:lastModifiedBy>
  <dcterms:modified xsi:type="dcterms:W3CDTF">2000-08-16T21:16:21Z</dcterms:modified>
  <cp:revision>65</cp:revision>
  <dc:subject/>
  <dc:title>Tesis de Licenciatura</dc:title>
</cp:coreProperties>
</file>