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F8F-E045-48F1-BDE2-655BFA11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D4C-2F56-4117-8E50-543A29D9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A93-43E3-4EA9-965C-653792FA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4F0-29EA-4668-8405-22F12FB8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9EE-5227-4CDF-9FFB-AFCE5759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7F1-235B-4E57-9770-6EB7E50C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8E2-6574-445A-A9F4-9FAB78E4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69E-A029-481D-9934-0092164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F54-B515-4587-AAEA-E0D9EF40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7C4-B37D-4BA6-A283-A063B8C6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836-98E6-444A-A42F-50E9FBA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107-CBB4-49F0-969D-E186F93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23D-1584-4E77-94DA-5A1A3426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12.png"/><Relationship Id="rId14" Type="http://schemas.openxmlformats.org/officeDocument/2006/relationships/image" Target="../media/image9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8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76320"/>
            <a:ext cx="5486400" cy="7617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Algorithm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2362320"/>
            <a:ext cx="2743200" cy="6094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Alg.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83808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295280"/>
            <a:ext cx="44956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3713040"/>
            <a:ext cx="18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190512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97180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429000"/>
            <a:ext cx="44197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ibrated Anim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03848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495680"/>
            <a:ext cx="152424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Alg. C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510552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562720"/>
            <a:ext cx="44197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inical Exampl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76560" y="6494400"/>
            <a:ext cx="1112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G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617220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1599840"/>
            <a:ext cx="190512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5105520" cy="10670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6480" y="2273400"/>
            <a:ext cx="33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rently working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mage quality 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is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of this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nly need consensus on the figures or merit. GREIT is defined in terms of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shows a significant improvement over backprojection and other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eighting region for each image (like a filter design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0880" y="4800600"/>
            <a:ext cx="1828440" cy="1676160"/>
            <a:chOff x="380880" y="4800600"/>
            <a:chExt cx="1828440" cy="1676160"/>
          </a:xfrm>
        </p:grpSpPr>
        <p:sp>
          <p:nvSpPr>
            <p:cNvPr id="239" name=""/>
            <p:cNvSpPr/>
            <p:nvPr/>
          </p:nvSpPr>
          <p:spPr>
            <a:xfrm>
              <a:off x="380880" y="4800600"/>
              <a:ext cx="1828440" cy="167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5760" y="5758200"/>
              <a:ext cx="365400" cy="3589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7800" y="5878080"/>
              <a:ext cx="121320" cy="11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538280" y="4419720"/>
            <a:ext cx="0" cy="2376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5029200"/>
            <a:ext cx="914400" cy="1143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48481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64627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5784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6110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4481640"/>
            <a:ext cx="0" cy="23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457200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9920" y="42670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586400"/>
            <a:ext cx="0" cy="11570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419720" y="6114600"/>
            <a:ext cx="0" cy="4381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19360" y="6129360"/>
            <a:ext cx="99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419360" y="5743440"/>
            <a:ext cx="99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5761080"/>
            <a:ext cx="0" cy="3492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10080" y="4572000"/>
            <a:ext cx="144792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529160" y="6248520"/>
            <a:ext cx="14479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591160" y="5791320"/>
            <a:ext cx="38088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19720" y="5819040"/>
            <a:ext cx="83808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4800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16" y="1056"/>
                </a:moveTo>
                <a:cubicBezTo>
                  <a:pt x="40" y="1040"/>
                  <a:pt x="64" y="1024"/>
                  <a:pt x="64" y="1008"/>
                </a:cubicBezTo>
                <a:cubicBezTo>
                  <a:pt x="64" y="992"/>
                  <a:pt x="16" y="984"/>
                  <a:pt x="16" y="960"/>
                </a:cubicBezTo>
                <a:cubicBezTo>
                  <a:pt x="16" y="936"/>
                  <a:pt x="0" y="880"/>
                  <a:pt x="64" y="864"/>
                </a:cubicBezTo>
                <a:cubicBezTo>
                  <a:pt x="128" y="848"/>
                  <a:pt x="288" y="880"/>
                  <a:pt x="400" y="864"/>
                </a:cubicBezTo>
                <a:cubicBezTo>
                  <a:pt x="512" y="848"/>
                  <a:pt x="704" y="792"/>
                  <a:pt x="736" y="768"/>
                </a:cubicBezTo>
                <a:cubicBezTo>
                  <a:pt x="768" y="744"/>
                  <a:pt x="592" y="736"/>
                  <a:pt x="592" y="720"/>
                </a:cubicBezTo>
                <a:cubicBezTo>
                  <a:pt x="592" y="704"/>
                  <a:pt x="736" y="696"/>
                  <a:pt x="736" y="672"/>
                </a:cubicBezTo>
                <a:cubicBezTo>
                  <a:pt x="736" y="648"/>
                  <a:pt x="688" y="600"/>
                  <a:pt x="592" y="576"/>
                </a:cubicBezTo>
                <a:cubicBezTo>
                  <a:pt x="496" y="552"/>
                  <a:pt x="256" y="552"/>
                  <a:pt x="160" y="528"/>
                </a:cubicBezTo>
                <a:cubicBezTo>
                  <a:pt x="64" y="504"/>
                  <a:pt x="32" y="464"/>
                  <a:pt x="16" y="432"/>
                </a:cubicBezTo>
                <a:cubicBezTo>
                  <a:pt x="0" y="400"/>
                  <a:pt x="64" y="368"/>
                  <a:pt x="64" y="336"/>
                </a:cubicBezTo>
                <a:cubicBezTo>
                  <a:pt x="64" y="304"/>
                  <a:pt x="16" y="288"/>
                  <a:pt x="16" y="240"/>
                </a:cubicBezTo>
                <a:cubicBezTo>
                  <a:pt x="16" y="192"/>
                  <a:pt x="64" y="88"/>
                  <a:pt x="64" y="48"/>
                </a:cubicBezTo>
                <a:cubicBezTo>
                  <a:pt x="64" y="8"/>
                  <a:pt x="24" y="8"/>
                  <a:pt x="1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562360" y="54864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33680" y="479916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lution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 th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8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76320"/>
            <a:ext cx="5486400" cy="7617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Algorithm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2362320"/>
            <a:ext cx="2743200" cy="6094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Alg.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83808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1295280"/>
            <a:ext cx="44956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46480" y="3713040"/>
            <a:ext cx="183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190512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297180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67080" y="3429000"/>
            <a:ext cx="44197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ibrated Anim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403848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4495680"/>
            <a:ext cx="152424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Alg. C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510552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5562720"/>
            <a:ext cx="44197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inical Exampl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76560" y="6494400"/>
            <a:ext cx="1112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Arial Unicode MS"/>
              </a:rPr>
              <a:t>G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6172200"/>
            <a:ext cx="0" cy="457200"/>
          </a:xfrm>
          <a:prstGeom prst="line">
            <a:avLst/>
          </a:prstGeom>
          <a:ln w="7632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35760" y="990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ne: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209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IT Proposal: Sep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Improvement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Discuss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85360" y="31384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an: early Oc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61680" y="51958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an: early Oc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3840" y="4067280"/>
            <a:ext cx="39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ired (in Oct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FEM models of adults and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Discussion and testing of GREIT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640" y="578952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ired (in Nov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Paper draft (begin N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Final paper (Nov 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1570" t="0" r="26919" b="38489"/>
          <a:stretch/>
        </p:blipFill>
        <p:spPr>
          <a:xfrm>
            <a:off x="6248520" y="11080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15717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8400" y="12492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31560" y="1523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over 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22560" y="2400480"/>
            <a:ext cx="1984320" cy="198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03040" y="240048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1200" y="2438280"/>
            <a:ext cx="1905120" cy="19051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22640" y="34290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4040" y="17971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60720" y="2438280"/>
            <a:ext cx="1905120" cy="19051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9400" y="1834200"/>
            <a:ext cx="1137960" cy="296100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1200" y="2969640"/>
            <a:ext cx="2181240" cy="79488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-175320" y="2407680"/>
            <a:ext cx="2181240" cy="79488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4040" y="2514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94480" y="2503440"/>
            <a:ext cx="59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003320" y="2057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4280" y="1712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95760" y="269064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2440" y="1813680"/>
            <a:ext cx="1137960" cy="296100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874240" y="2948760"/>
            <a:ext cx="2181240" cy="7945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75880" y="2463120"/>
            <a:ext cx="2181240" cy="7945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867040"/>
            <a:ext cx="291960" cy="79056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27760" y="3597120"/>
            <a:ext cx="9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entre of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6067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720" y="27115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rcRect l="19362" t="0" r="38489" b="61629"/>
          <a:stretch/>
        </p:blipFill>
        <p:spPr>
          <a:xfrm>
            <a:off x="6400800" y="2149560"/>
            <a:ext cx="838080" cy="76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6397560" y="2403000"/>
            <a:ext cx="927360" cy="33768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78480" y="2326680"/>
            <a:ext cx="927360" cy="33768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89880" y="244008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07324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13680" y="2467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280" y="207324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366084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rcRect l="19362" t="0" r="38489" b="61629"/>
          <a:stretch/>
        </p:blipFill>
        <p:spPr>
          <a:xfrm>
            <a:off x="6400800" y="3203640"/>
            <a:ext cx="838080" cy="76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89880" y="349416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857640" y="3749400"/>
            <a:ext cx="685800" cy="1522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0680" y="3613320"/>
            <a:ext cx="133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blob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77216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rcRect l="19362" t="0" r="38489" b="61629"/>
          <a:stretch/>
        </p:blipFill>
        <p:spPr>
          <a:xfrm>
            <a:off x="6400800" y="4314960"/>
            <a:ext cx="83808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89880" y="460548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857640" y="4860720"/>
            <a:ext cx="685800" cy="2602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48400" y="428292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8120" y="32306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30840" y="4908600"/>
            <a:ext cx="149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ch blob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 area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51152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rcRect l="11570" t="0" r="26919" b="38489"/>
          <a:stretch/>
        </p:blipFill>
        <p:spPr>
          <a:xfrm>
            <a:off x="6248520" y="537516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53080" y="5578560"/>
            <a:ext cx="457200" cy="457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83884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81680" y="6188040"/>
            <a:ext cx="609840" cy="763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48400" y="5516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31200" y="5975280"/>
            <a:ext cx="136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tud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rted 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1409760"/>
            <a:ext cx="152280" cy="152280"/>
          </a:xfrm>
          <a:prstGeom prst="ellipse">
            <a:avLst/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9960" y="2666880"/>
            <a:ext cx="13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to blob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quality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495680" y="1982880"/>
            <a:ext cx="1371600" cy="1293840"/>
            <a:chOff x="4495680" y="1982880"/>
            <a:chExt cx="1371600" cy="12938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495680" y="1982880"/>
              <a:ext cx="137160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21600" y="2007000"/>
              <a:ext cx="1319760" cy="124524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66560" y="2186640"/>
              <a:ext cx="104760" cy="98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ise performance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47920"/>
            <a:ext cx="1523880" cy="761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ckg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7432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14400" y="22096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362320"/>
            <a:ext cx="1752480" cy="761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2670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120" y="2209320"/>
            <a:ext cx="0" cy="2057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886200"/>
            <a:ext cx="1752480" cy="7621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9400" y="1492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88760" y="1492200"/>
            <a:ext cx="9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n-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7432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2670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2760" y="14922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0600" y="3657600"/>
            <a:ext cx="1336680" cy="123660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9240" y="394956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5320" y="1066680"/>
            <a:ext cx="2438280" cy="4191120"/>
            <a:chOff x="3505320" y="1066680"/>
            <a:chExt cx="2438280" cy="4191120"/>
          </a:xfrm>
        </p:grpSpPr>
        <p:sp>
          <p:nvSpPr>
            <p:cNvPr id="133" name=""/>
            <p:cNvSpPr/>
            <p:nvPr/>
          </p:nvSpPr>
          <p:spPr>
            <a:xfrm>
              <a:off x="3505320" y="10666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9720" y="10666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3600" y="10666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79320" y="14922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935680" y="3716280"/>
                <a:ext cx="17683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age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t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943600" y="2057400"/>
                <a:ext cx="1719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age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t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696080" y="3124080"/>
                <a:ext cx="10749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V="1">
            <a:off x="7620120" y="3809880"/>
            <a:ext cx="761760" cy="1371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3124080"/>
            <a:ext cx="1371600" cy="7621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5200" y="510552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ure – noi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i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057400" y="4572000"/>
            <a:ext cx="4572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160" y="4800600"/>
            <a:ext cx="298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 of nois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andom (Gauss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hantom (Hah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eco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1295280"/>
          <a:ext cx="6781680" cy="4775040"/>
        </p:xfrm>
        <a:graphic>
          <a:graphicData uri="http://schemas.openxmlformats.org/drawingml/2006/table">
            <a:tbl>
              <a:tblPr/>
              <a:tblGrid>
                <a:gridCol w="1341360"/>
                <a:gridCol w="1782720"/>
                <a:gridCol w="1752840"/>
                <a:gridCol w="1904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ffie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pro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f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¼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72200" y="243828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511360" y="426708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267080" y="4267080"/>
            <a:ext cx="1527120" cy="1527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172200" y="426708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1295280" y="4572000"/>
            <a:ext cx="1752840" cy="99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3760" y="54864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ulate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238880" y="5029200"/>
            <a:ext cx="91440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51240" y="541008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efact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ive larg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314840" y="1447920"/>
            <a:ext cx="7621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51240" y="1143000"/>
            <a:ext cx="13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simpl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gs. Earl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2819160"/>
            <a:ext cx="91440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11960" y="297180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7010280" y="2895480"/>
            <a:ext cx="1371600" cy="763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28280" y="29718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066680"/>
          <a:ext cx="8229600" cy="5214960"/>
        </p:xfrm>
        <a:graphic>
          <a:graphicData uri="http://schemas.openxmlformats.org/drawingml/2006/table">
            <a:tbl>
              <a:tblPr/>
              <a:tblGrid>
                <a:gridCol w="2057400"/>
                <a:gridCol w="3214440"/>
                <a:gridCol w="2957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ffield Backpro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(no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 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 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 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495680" y="6216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ectrode effects in backp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5880" y="5257800"/>
            <a:ext cx="2616480" cy="100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261648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819520" y="3733920"/>
            <a:ext cx="2616120" cy="1006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819520" y="5181480"/>
            <a:ext cx="2616120" cy="100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019920" y="2362320"/>
            <a:ext cx="2616120" cy="91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2616120" cy="1006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 flipV="1">
            <a:off x="5333760" y="5790960"/>
            <a:ext cx="22860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723920" y="2286000"/>
            <a:ext cx="22860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nge posi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05720" y="3733920"/>
            <a:ext cx="761760" cy="3045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473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cretiza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553080" y="6095520"/>
            <a:ext cx="609840" cy="304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6140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proj has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IT: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066680"/>
          <a:ext cx="8381880" cy="55720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ig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sign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fference me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red Outpu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constructed ima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pos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v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ho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img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se</a:t>
                      </a:r>
                      <a:br>
                        <a:rPr sz="28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d (Gaussian) or measured noise from unchanging 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ho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a signal with noi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red output for noise is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d (Gaussian) or measured noise from deforming 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v</a:t>
                      </a:r>
                      <a:r>
                        <a:rPr b="1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ho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a signal with mo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red output for movement is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752480" y="2590920"/>
            <a:ext cx="114300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276720"/>
            <a:ext cx="76320" cy="75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895480"/>
            <a:ext cx="1067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6680" y="2438280"/>
            <a:ext cx="119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r phat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1240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895480"/>
            <a:ext cx="7632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3080" y="32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0960" y="309240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54280" y="284940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048120"/>
            <a:ext cx="1828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3048120"/>
            <a:ext cx="152640" cy="304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03440" y="2438280"/>
            <a:ext cx="1405080" cy="507960"/>
          </a:xfrm>
          <a:custGeom>
            <a:avLst/>
            <a:gdLst/>
            <a:ahLst/>
            <a:rect l="l" t="t" r="r" b="b"/>
            <a:pathLst>
              <a:path w="885" h="320">
                <a:moveTo>
                  <a:pt x="64" y="0"/>
                </a:moveTo>
                <a:cubicBezTo>
                  <a:pt x="32" y="76"/>
                  <a:pt x="0" y="152"/>
                  <a:pt x="16" y="192"/>
                </a:cubicBezTo>
                <a:cubicBezTo>
                  <a:pt x="32" y="232"/>
                  <a:pt x="72" y="248"/>
                  <a:pt x="160" y="240"/>
                </a:cubicBezTo>
                <a:cubicBezTo>
                  <a:pt x="248" y="232"/>
                  <a:pt x="432" y="160"/>
                  <a:pt x="544" y="144"/>
                </a:cubicBezTo>
                <a:cubicBezTo>
                  <a:pt x="656" y="128"/>
                  <a:pt x="779" y="115"/>
                  <a:pt x="832" y="144"/>
                </a:cubicBezTo>
                <a:cubicBezTo>
                  <a:pt x="885" y="173"/>
                  <a:pt x="854" y="283"/>
                  <a:pt x="860" y="32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96080" y="2057400"/>
            <a:ext cx="1143000" cy="1066680"/>
            <a:chOff x="7696080" y="2057400"/>
            <a:chExt cx="1143000" cy="1066680"/>
          </a:xfrm>
        </p:grpSpPr>
        <p:sp>
          <p:nvSpPr>
            <p:cNvPr id="194" name=""/>
            <p:cNvSpPr/>
            <p:nvPr/>
          </p:nvSpPr>
          <p:spPr>
            <a:xfrm>
              <a:off x="7696080" y="2057400"/>
              <a:ext cx="114300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05560" y="2666880"/>
              <a:ext cx="228600" cy="2286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1880" y="2743200"/>
              <a:ext cx="759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467480" y="2666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1120" y="2362320"/>
            <a:ext cx="132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lar i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20% radi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200400"/>
            <a:ext cx="1828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200400"/>
            <a:ext cx="152280" cy="533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24680" y="2355840"/>
            <a:ext cx="1528560" cy="819000"/>
          </a:xfrm>
          <a:custGeom>
            <a:avLst/>
            <a:gdLst/>
            <a:ahLst/>
            <a:rect l="l" t="t" r="r" b="b"/>
            <a:pathLst>
              <a:path w="963" h="516">
                <a:moveTo>
                  <a:pt x="50" y="0"/>
                </a:moveTo>
                <a:cubicBezTo>
                  <a:pt x="47" y="65"/>
                  <a:pt x="0" y="312"/>
                  <a:pt x="32" y="389"/>
                </a:cubicBezTo>
                <a:cubicBezTo>
                  <a:pt x="64" y="466"/>
                  <a:pt x="147" y="468"/>
                  <a:pt x="245" y="460"/>
                </a:cubicBezTo>
                <a:cubicBezTo>
                  <a:pt x="343" y="452"/>
                  <a:pt x="511" y="360"/>
                  <a:pt x="622" y="340"/>
                </a:cubicBezTo>
                <a:cubicBezTo>
                  <a:pt x="733" y="320"/>
                  <a:pt x="857" y="311"/>
                  <a:pt x="910" y="340"/>
                </a:cubicBezTo>
                <a:cubicBezTo>
                  <a:pt x="963" y="369"/>
                  <a:pt x="932" y="479"/>
                  <a:pt x="938" y="5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220968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IT: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[ 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[ D,     0,     0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e noise/movement amplitude. Increasing value will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matri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esigned to approximate: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: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 = X 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eco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143000"/>
          <a:ext cx="6781680" cy="5410080"/>
        </p:xfrm>
        <a:graphic>
          <a:graphicData uri="http://schemas.openxmlformats.org/drawingml/2006/table">
            <a:tbl>
              <a:tblPr/>
              <a:tblGrid>
                <a:gridCol w="1341360"/>
                <a:gridCol w="1782720"/>
                <a:gridCol w="1752840"/>
                <a:gridCol w="1904760"/>
              </a:tblGrid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ff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pr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rm dif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rm dif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886200" y="213372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809880" y="510552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5715000" y="510552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2127240" y="358128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3879720" y="3581280"/>
            <a:ext cx="1225800" cy="122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5708520" y="3581280"/>
            <a:ext cx="1225800" cy="122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469640" y="1353960"/>
            <a:ext cx="15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pe stay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consta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radial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28800" y="1058760"/>
            <a:ext cx="2397240" cy="922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67080" y="1058760"/>
            <a:ext cx="2397240" cy="92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705720" y="1058760"/>
            <a:ext cx="2396880" cy="922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828800" y="2097000"/>
            <a:ext cx="2387520" cy="838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4267080" y="2097000"/>
            <a:ext cx="2387880" cy="838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6705720" y="2097000"/>
            <a:ext cx="2396880" cy="838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1859040" y="3011400"/>
            <a:ext cx="2396880" cy="922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4267080" y="3011400"/>
            <a:ext cx="2397240" cy="922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6705720" y="3011400"/>
            <a:ext cx="2396880" cy="922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1859040" y="4048200"/>
            <a:ext cx="2396880" cy="871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4267080" y="4016520"/>
            <a:ext cx="2397240" cy="871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6705720" y="4016520"/>
            <a:ext cx="2396880" cy="871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3"/>
          <a:stretch/>
        </p:blipFill>
        <p:spPr>
          <a:xfrm>
            <a:off x="1828800" y="4992840"/>
            <a:ext cx="2397240" cy="922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4"/>
          <a:stretch/>
        </p:blipFill>
        <p:spPr>
          <a:xfrm>
            <a:off x="4267080" y="4992840"/>
            <a:ext cx="2397240" cy="922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5"/>
          <a:stretch/>
        </p:blipFill>
        <p:spPr>
          <a:xfrm>
            <a:off x="6705720" y="4992840"/>
            <a:ext cx="2396880" cy="922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6"/>
          <a:stretch/>
        </p:blipFill>
        <p:spPr>
          <a:xfrm>
            <a:off x="1828800" y="5969160"/>
            <a:ext cx="2397240" cy="922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7"/>
          <a:stretch/>
        </p:blipFill>
        <p:spPr>
          <a:xfrm>
            <a:off x="4267080" y="5969160"/>
            <a:ext cx="2397240" cy="922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8"/>
          <a:stretch/>
        </p:blipFill>
        <p:spPr>
          <a:xfrm>
            <a:off x="6705720" y="5983200"/>
            <a:ext cx="2396880" cy="9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0" y="0"/>
          <a:ext cx="9144000" cy="6907320"/>
        </p:xfrm>
        <a:graphic>
          <a:graphicData uri="http://schemas.openxmlformats.org/drawingml/2006/table">
            <a:tbl>
              <a:tblPr/>
              <a:tblGrid>
                <a:gridCol w="1828800"/>
                <a:gridCol w="2438280"/>
                <a:gridCol w="2438640"/>
                <a:gridCol w="2438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f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pro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rm dif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rm dif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for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 E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form, sm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form, sm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p.De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form, sm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form, sm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se Amp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iform, sm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ler</cp:lastModifiedBy>
  <dcterms:modified xsi:type="dcterms:W3CDTF">2008-09-22T18:06:2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