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838080" y="0"/>
            <a:ext cx="7979040" cy="6764400"/>
            <a:chOff x="838080" y="0"/>
            <a:chExt cx="7979040" cy="6764400"/>
          </a:xfrm>
        </p:grpSpPr>
        <p:graphicFrame>
          <p:nvGraphicFramePr>
            <p:cNvPr id="37" name=""/>
            <p:cNvGraphicFramePr/>
            <p:nvPr/>
          </p:nvGraphicFramePr>
          <p:xfrm>
            <a:off x="838080" y="0"/>
            <a:ext cx="7979040" cy="676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0"/>
                      <a:ext cx="7979040" cy="676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" name=""/>
            <p:cNvSpPr/>
            <p:nvPr/>
          </p:nvSpPr>
          <p:spPr>
            <a:xfrm rot="19803000">
              <a:off x="3428640" y="159984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s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9799400">
              <a:off x="3639240" y="203796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uah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9608600">
              <a:off x="2056320" y="3466800"/>
              <a:ext cx="126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. Congr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3156600">
              <a:off x="1966680" y="53460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. Cabil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251400">
              <a:off x="6890040" y="95328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. Del Libert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719000">
              <a:off x="3505320" y="369540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.Uga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630800">
              <a:off x="6476760" y="25902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.Roosve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510800">
              <a:off x="7086960" y="31809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ro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258600">
              <a:off x="2502360" y="511308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uelta de Obli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3255600">
              <a:off x="3448440" y="449424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3258000">
              <a:off x="4480200" y="48142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3258000">
              <a:off x="4427280" y="288360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de Febr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3250200">
              <a:off x="4881240" y="23914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 de Septiemb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3249000">
              <a:off x="5736960" y="19184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ribeñ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3255600">
              <a:off x="6394320" y="148824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tañe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3250200">
              <a:off x="4617360" y="41432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´Higg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3147000">
              <a:off x="5853240" y="38232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e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838080" y="0"/>
          <a:ext cx="7979040" cy="67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979040" cy="67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828800" y="3352680"/>
            <a:ext cx="1905120" cy="2667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050480" y="3300120"/>
            <a:ext cx="700920" cy="426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36000" y="2196360"/>
            <a:ext cx="1608120" cy="102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20960" y="120960"/>
            <a:ext cx="2959560" cy="1878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84000" y="887400"/>
            <a:ext cx="5666760" cy="357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03560" y="1487520"/>
            <a:ext cx="2827800" cy="186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68640" y="3436200"/>
            <a:ext cx="2597040" cy="17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40600" y="2107080"/>
            <a:ext cx="5539320" cy="378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37040" y="3436200"/>
            <a:ext cx="1195560" cy="768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193440" y="2647440"/>
            <a:ext cx="2427480" cy="1721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307680" y="4394880"/>
            <a:ext cx="2820600" cy="2085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2590920"/>
            <a:ext cx="1905120" cy="2666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438280" y="2971800"/>
            <a:ext cx="1905120" cy="2666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05320" y="2285640"/>
            <a:ext cx="182880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943240" y="609120"/>
            <a:ext cx="198108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990720"/>
            <a:ext cx="1828800" cy="2590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371600"/>
            <a:ext cx="1752480" cy="2666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828800"/>
            <a:ext cx="1143000" cy="19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234400" y="3289680"/>
            <a:ext cx="274680" cy="43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733920"/>
            <a:ext cx="38124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3809880"/>
            <a:ext cx="2057400" cy="2667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152280"/>
            <a:ext cx="1828800" cy="2438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803000">
            <a:off x="3916080" y="12949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799400">
            <a:off x="3639240" y="2037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608600">
            <a:off x="2169000" y="34095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. Co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3156600">
            <a:off x="1319400" y="44636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. Cabil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3251400">
            <a:off x="6890040" y="95328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. Del Liber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719000">
            <a:off x="3144960" y="396216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Uga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630800">
            <a:off x="6476760" y="25902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Roosv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510800">
            <a:off x="7086960" y="3161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258600">
            <a:off x="2597760" y="524988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uelta de Obli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3255600">
            <a:off x="3505680" y="449424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258000">
            <a:off x="4480200" y="4814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499800">
            <a:off x="4255560" y="24454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de Febr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3250200">
            <a:off x="4862160" y="22960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de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3249000">
            <a:off x="5736960" y="1880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be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3255600">
            <a:off x="6394320" y="14882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añ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3250200">
            <a:off x="3855600" y="30765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´Higg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3147000">
            <a:off x="5901840" y="38800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135600">
            <a:off x="-12240" y="517968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            40               30            20  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448400">
            <a:off x="2429280" y="461880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         20          30         40         50           60            70           80              90         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19:38:22Z</dcterms:created>
  <dc:creator>Mariana</dc:creator>
  <dc:description/>
  <dc:language>en-US</dc:language>
  <cp:lastModifiedBy>Mariana</cp:lastModifiedBy>
  <dcterms:modified xsi:type="dcterms:W3CDTF">2001-01-21T19:24:01Z</dcterms:modified>
  <cp:revision>19</cp:revision>
  <dc:subject/>
  <dc:title>Sin título de diapositiva</dc:title>
</cp:coreProperties>
</file>